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62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camera.wav" ContentType="audio/x-wav"/>
  <Override PartName="/ppt/media/image6.png" ContentType="image/png"/>
  <Override PartName="/ppt/media/image7.jpeg" ContentType="image/jpeg"/>
  <Override PartName="/ppt/media/image1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</p:sldMasterIdLst>
  <p:sldIdLst>
    <p:sldId id="256" r:id="rId75"/>
    <p:sldId id="257" r:id="rId76"/>
    <p:sldId id="258" r:id="rId77"/>
    <p:sldId id="259" r:id="rId78"/>
    <p:sldId id="260" r:id="rId79"/>
    <p:sldId id="261" r:id="rId80"/>
    <p:sldId id="262" r:id="rId81"/>
    <p:sldId id="263" r:id="rId82"/>
    <p:sldId id="264" r:id="rId83"/>
    <p:sldId id="265" r:id="rId84"/>
    <p:sldId id="266" r:id="rId85"/>
    <p:sldId id="267" r:id="rId86"/>
    <p:sldId id="268" r:id="rId87"/>
    <p:sldId id="269" r:id="rId88"/>
    <p:sldId id="270" r:id="rId89"/>
    <p:sldId id="271" r:id="rId90"/>
    <p:sldId id="272" r:id="rId91"/>
    <p:sldId id="273" r:id="rId92"/>
    <p:sldId id="274" r:id="rId93"/>
    <p:sldId id="27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" Target="slides/slide1.xml"/><Relationship Id="rId76" Type="http://schemas.openxmlformats.org/officeDocument/2006/relationships/slide" Target="slides/slide2.xml"/><Relationship Id="rId77" Type="http://schemas.openxmlformats.org/officeDocument/2006/relationships/slide" Target="slides/slide3.xml"/><Relationship Id="rId78" Type="http://schemas.openxmlformats.org/officeDocument/2006/relationships/slide" Target="slides/slide4.xml"/><Relationship Id="rId79" Type="http://schemas.openxmlformats.org/officeDocument/2006/relationships/slide" Target="slides/slide5.xml"/><Relationship Id="rId80" Type="http://schemas.openxmlformats.org/officeDocument/2006/relationships/slide" Target="slides/slide6.xml"/><Relationship Id="rId81" Type="http://schemas.openxmlformats.org/officeDocument/2006/relationships/slide" Target="slides/slide7.xml"/><Relationship Id="rId82" Type="http://schemas.openxmlformats.org/officeDocument/2006/relationships/slide" Target="slides/slide8.xml"/><Relationship Id="rId83" Type="http://schemas.openxmlformats.org/officeDocument/2006/relationships/slide" Target="slides/slide9.xml"/><Relationship Id="rId84" Type="http://schemas.openxmlformats.org/officeDocument/2006/relationships/slide" Target="slides/slide10.xml"/><Relationship Id="rId85" Type="http://schemas.openxmlformats.org/officeDocument/2006/relationships/slide" Target="slides/slide11.xml"/><Relationship Id="rId86" Type="http://schemas.openxmlformats.org/officeDocument/2006/relationships/slide" Target="slides/slide12.xml"/><Relationship Id="rId87" Type="http://schemas.openxmlformats.org/officeDocument/2006/relationships/slide" Target="slides/slide13.xml"/><Relationship Id="rId88" Type="http://schemas.openxmlformats.org/officeDocument/2006/relationships/slide" Target="slides/slide14.xml"/><Relationship Id="rId89" Type="http://schemas.openxmlformats.org/officeDocument/2006/relationships/slide" Target="slides/slide15.xml"/><Relationship Id="rId90" Type="http://schemas.openxmlformats.org/officeDocument/2006/relationships/slide" Target="slides/slide16.xml"/><Relationship Id="rId91" Type="http://schemas.openxmlformats.org/officeDocument/2006/relationships/slide" Target="slides/slide17.xml"/><Relationship Id="rId92" Type="http://schemas.openxmlformats.org/officeDocument/2006/relationships/slide" Target="slides/slide18.xml"/><Relationship Id="rId93" Type="http://schemas.openxmlformats.org/officeDocument/2006/relationships/slide" Target="slides/slide19.xml"/><Relationship Id="rId94" Type="http://schemas.openxmlformats.org/officeDocument/2006/relationships/slide" Target="slides/slide20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CE4-8082-4CD5-A898-8F9ED605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F4F-693B-4D84-B7D1-02B618BF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D70A1-A9E8-4268-B486-3319D4DA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655FF-33EB-4EAA-8009-07DF8146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5A503-9E27-482C-B13E-076DF75A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7D6B8-494C-4663-BFEF-B1AB80D2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A9EB3-AF11-4D32-B947-3B5ECCA4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A5EE7-90C9-4E29-A8C5-280E5349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0086D-4F94-49A1-8DA9-EA0E307A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119C6-3430-4D49-8308-279DCB2F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ADE06-1B21-451B-B308-5CCF42DE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0F1C1-C2C7-45D7-A61C-D8262411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F0F1-4AA5-4233-A81B-12292873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2975D-2C35-4972-BD47-5C78A262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84B6E-35CA-4047-BAA5-4838327F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23598-6465-470C-8C61-4974375F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7B833-6190-458F-9B1D-D15D3F2C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8262E-0335-40D8-AA2B-D4C7200E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37E3A-D8A8-48F6-80FE-D35DD9B7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63FC8-31C3-4499-BC9E-4E58732B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6CDF2-4444-4558-9887-9D5FF745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293C0-5FEB-4184-A27B-88628F04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5C6AA-74D1-4A7A-A3D1-9138CC5F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C545-C4C8-4466-9AE8-9C821CD6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5266F-09FD-4951-902E-40B013CF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34A45-48A1-4697-ABEF-749D2552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FE513-12B6-4465-B7C0-C389FB64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38278-B2A1-4E10-8EAF-197F97A1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CE989-42E6-4192-9CFA-5DF05679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EE580-C6A9-430C-A512-D73170FA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54B3D-DC7C-42D3-8545-2128A0B4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D6A93-BDEB-46F6-8328-84F022E8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6A9E4-F706-4D7D-A17B-D433EB5B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252F7-F1B5-4711-8C3C-633613A1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D6E8-7EC7-482E-A5AA-C1C102D6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32D31-D0B6-4385-B161-0D697591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D2425-EE93-4784-8145-D371DCA4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0FB8B-6400-46AE-98F8-808A5B49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79D3A-5947-4D6E-B34D-23BFA36A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28F05-3154-4350-9DB0-FEA81507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8CA46-659F-4F13-8401-8FDB7B69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F91B0-66CD-4C89-8286-34D90940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50EDF-95CE-4631-AF44-205090FC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A8150-23FF-454B-830E-4E8CE578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DE5DD-4CDC-4504-A951-F1222FCE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8CA6-87E4-405F-B858-7A6029E5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93B30-0A54-4D53-ACCA-87753E5C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83217-8CDA-46DD-8F2F-DC0F4899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1D4A4-589E-4377-B513-D254EBB2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F5C3D-239E-4EA2-A17C-7CA39E3E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097FD-A2FB-4EF7-A36E-67C78FA9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4AC748-AF4E-4C58-961B-D25D1A72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2C6CC-33D4-4D99-8673-94D37F69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B208F2-5817-4CE0-9FCB-A101F7BD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E02F4E-959F-419A-A6C1-405D8275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A2956-AAC3-4EC0-9780-C5FBF58D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78E0-0156-4926-8403-1DC719D6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86E66-F592-4EA7-9F05-BF471F81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07DB7F-5FAA-44A4-950A-F423B7F3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2C5000-33EE-43D3-B6D0-B3DAF1DC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F963A-177B-4E65-B6D5-76E7B184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7719C-FF2A-4E64-963B-80FC8146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7BFB99-87DE-4E73-99F3-68723BAB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24C08-7CAF-4D7D-A460-E7C2359C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D3C761-F539-41E7-AB4D-A267DF78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056297-48E3-4BFD-9AC1-97F86D2F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EECF0-077F-428A-AE83-13E704CB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8669-1AA5-4D64-B68A-8AB7C299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F3632F-94EE-4E9A-A339-F312152C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EEE79-1922-43ED-B1E3-47AA7B8D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66AF2-B1EA-439D-A147-AAE233C2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BFB927-6693-4783-A3DC-F969CBD3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C31C99-4451-4775-9243-33E71D4F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F81AF0-EB3D-4E5E-8AD0-4E301280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A4712E-4554-4DAF-A314-B340B8E0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1FA13-522E-4141-A1A5-EA25E5A3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DB17D5-9C9D-4BC6-BF7D-CCEEF104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96DCFF-7084-4CD2-8DED-F08A2178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5AA6-A11C-4F2C-8FD9-8E43BC3E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AE5181-724D-4BAD-BE67-55F89835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E0952D-E15C-4594-93FE-E737809B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2B18B8-3032-4F2F-86B1-EBA600A2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18F75F-CA16-409E-BC1A-D0038E48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6CBFC7-9AC8-45E0-8950-42E8186B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9C87D2-8A17-4206-9ABA-9E8A3DEE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50B7E9-E115-46D9-9278-4400A0EF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30480F-9CEB-404C-9AD3-09651F60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B349CA-72B4-4824-9D10-26DFD1BA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490123-9E05-4A1C-9028-53AA4C5B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618B-38DC-42F8-9F99-3A0C9388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1FFC8F-D0B8-4254-AAE4-8BBC7E41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F668BA-3CDD-4508-BB50-362D842C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B8B8A8-0C9A-43E4-81DF-72563B9B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82E6F6-3964-4F82-9104-37C398B8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1458BD-79B7-47AF-8FE9-4A4C9A03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364240-4226-4DD9-A554-33E93E8D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EFB811-794B-4606-8267-580FF95A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6A98D7-0DF1-4F96-9DD1-492A7213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E57284-9695-4189-8B6B-B78D608D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3C7CFC-12B6-4D4D-B391-317132D0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374E-A3C3-4597-9257-84CBA82D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315CA7-C787-4E30-A779-1747AB18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B1F553-6331-4BFB-AB83-F8990362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0A31C8-651B-4AEE-BCAA-77A720B0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F355D9-D3FA-420B-AA3D-BFAD1E5C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64C9FB-2115-4265-8D44-254AD37A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BB298F-EAA7-4449-AFAC-145A99DA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30A568-490B-4C40-874B-32B45532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64249C-6411-4144-BC2B-4BF6B22F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8AE94E-A462-4A49-8B20-70A4EE2F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43B158-7F60-4ADE-8A2D-102C8CAD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787F-275C-4466-9910-A5068328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D2BD-4E85-4535-8687-831DDA82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4323BC-5585-4EAD-931E-47638C40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8B68E0-B7B7-409C-B47F-1DB74861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A953DD-4702-4E0A-B45C-32F6AB94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9C3B02-0430-4299-8BD7-128A8191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081343-6CDE-4C08-98A2-D7445235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D0F82C-F410-4560-9FF5-8408CECD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D8F52D-7E21-4909-A61C-17D07FD9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02B774-7532-4EDD-8D18-FA86B751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6921DF-5261-4BB6-9F73-7EC03CAE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C58F33-3C8A-4C04-9E7F-BAE160C5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560D-6906-40C3-AF6F-BAA25D63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834AF9-5BC5-4B86-A387-5A2A4A3F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C79D8A-6E28-4633-A061-D8C6D8B2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B143DF-1B09-47AC-9D60-B6824F03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57B8C6-C28A-464C-9058-E05D7369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659741-EEBF-4344-88D0-BD4E0EE7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27D456-8CA8-4F2F-9213-09F2CBCC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F05940-E59F-4382-8C99-2E490473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A1D4DE-F323-49BB-9FD9-7A59C7A9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B8C87A-91AD-4FC1-AD52-31C359D8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E70C7F-B770-46C5-8804-CB2C7753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D582-0AB7-444B-948E-5EBAB192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DA386B-D9B2-4479-9EA2-391F609A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713485-7B1D-4E6A-A106-A0892638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62C0CD-7564-4D93-B795-1A8A556F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267E6B-A33F-4279-A076-6AE3CDEE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D81782-47D7-40CC-8E44-06DA256B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3B2F21-BABD-4036-A12F-F1B675DD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F8F7EA-7816-4622-A94E-28F6D4A8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9C1B01-DD0D-4267-B601-DA65F4D0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4C6A06-5B3D-4618-BC9A-1A083E63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25182B-10CE-429A-8E47-8AC4084E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8D44-0792-4D9B-9E8E-86D4D73C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31086E-DB3A-4C5F-94CC-9CEB0111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7F5D78-F160-4CC4-AE7F-012B1417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58C879-C927-4C83-B44C-1946A584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F6660D-71FF-4B97-9E4C-0CEEE452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5D1336-321C-4447-B9C0-4812A4A8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B9C616-21F2-43EE-AEDB-3F8B68AB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734240-D6D5-48A8-983D-2A69E7DB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7B426A-55FA-483F-89C0-136510D8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8EE4F5-E107-48D7-A093-8FB03BA5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15774E-7254-4F97-AAF2-E1A2F3D4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6EC4-19D6-4D08-AFE3-1C447B58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B64513-0FA2-4769-BECD-84822AF0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C98BC0-56E8-47E4-A60E-FC1B475B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B1C112-2A62-4348-8DD7-3ECA7EC2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A297ED-6B9B-450D-B4CD-64DA1409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0161F9-67D2-410A-80B3-FDFDADC9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C26FDE-8DFA-47CE-AA95-2E3550EB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BF8E27-17E2-4F31-B9F3-26C7A23A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2B4341-4595-439C-9053-083D5F23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60D986-FD38-4807-A6E9-A437B5D8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FA7F40-88E8-4A7D-99FE-275264C9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D5D67-8073-4486-9DBC-C50B9ABC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5C09EB-AA48-43E2-BF3B-311B7E02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8F2D2F-FEBC-49F9-B1AB-46F29BCB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C85AB4-C1EB-4684-8059-0F482DDF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83F0E3-2B00-40E7-9C88-C2ACA686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7CB0D0-7F3E-4FA1-B2FE-E86901F5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1D0114-ACFD-459D-B2F3-C357EF3A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2AF63F-B884-4764-8D5C-E1B8F9DC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118556-8D6E-4B33-87D2-1B7A4C0B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58A818-FF9B-4034-B526-E3A0273A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AA6409-B973-4CB0-AD53-13DE12EB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60A4D-6C70-4A3A-B634-433DEBC6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A8F45F-318B-4DA7-81C9-8194FFC3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E69377-F648-49E0-A3AC-31247603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7E0C36-CD3D-415A-8503-D44F3C55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4F0CDF-C055-4FAB-833D-2F5533E3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AD10AE-8DCC-43C9-A06A-AD4ECD0B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7FECB8-A0FD-4E82-8050-B9886961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0EF81F-48F7-4C04-9A2A-A1714BC5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60440A-F84C-4E6F-8724-936BFD77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B10AE8-1DDB-43C7-8D56-F9E31283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71F228-CA41-4345-A292-3785D861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541AE-D100-4A58-861F-9DF813B5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55DAC4-73A4-4042-BB18-B4D92264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B3EE25-DE34-4CC3-B96A-A0CC8814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953B73-DA29-4AE3-9A0B-5380A5C8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B306E8-1954-4794-8FF4-FC38EDDF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B0A62D-CFFE-42AC-992D-FE9F1763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FDA66A-FF4D-461C-BFB8-C5CB0DC9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DD1417-C7AC-4EC4-98F8-8FA9CDA7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55CAAA-ED60-4709-A305-C27D832B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65B02E-369B-4B75-8626-4BF36E4A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C090FD-338B-4EFF-BC64-22403B38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D52A2-9678-40AC-A86E-2BF632CE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5FD2FA-E6B1-44C3-B76D-9367F5A0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01F8B8-4176-49E9-9E06-ECC45700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7D1B12-CFFE-4954-A34C-41F5293C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65C915-9907-413D-BCD1-CA6AE636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F5E66F-5CCD-4FFB-A228-48D6F963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75BD67-E807-483E-A77B-D27F8593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17870E-932C-46AD-8A69-A4BB167E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708FCF-177B-4FB4-9864-50B9A30B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FE5012-1B10-4C18-9908-5912DB31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9CFB41-2C62-4FB4-A300-55529BC8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37112-B844-46E7-AD95-A4BCA843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294BD6-C071-4E92-9AD3-18560D81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86C772-5DFD-44AF-9EB1-25D3B0A8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07ED12-5B73-4189-A9B5-AF1BE730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1E3410-DCA7-487E-8CF1-0FE5330D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EC03BA-5FD6-467E-8CC4-A54EBF53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13AEB0-3B75-44DF-ACA9-5BB850AF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017E92-CC0F-4E0C-A21A-50FB390E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92444A-CCFB-470D-B646-8FE0CDC3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66CCC0-B9A1-4AAB-A4F8-132CD573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A2E894-D57F-4E21-8E6A-872761BB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E44-68DE-474E-992A-741CCF07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B9EE0-E5B7-4E96-A1BF-70869AA7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6FA6E9-4ECA-4319-85FD-B3D3495D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B38DC8-91D3-4871-96A0-68EFDF03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02B1A1-D738-49D5-BD0E-38219270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6C8A96-9FE1-4BB5-A0EF-5A417C6A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101F58-F105-40BA-BB9B-13EBBE51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5D95DC-3419-4A52-9BC2-FA17EE68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DD59B0-EE01-4E7F-A586-36FF0868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316C6D-8161-4953-BA00-8B8596CC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1095DB-A8DA-4294-AB79-507B8719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9B0A38-3970-4461-8FF7-3CD8FF5D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F7E60-4B97-4D74-89C6-FCD598E2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E0483F-5A15-40AA-86AF-792698DB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2E891E-870D-489F-9369-9A200593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D95E8E-B88E-4EF6-917E-F95C14BD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A9B5DD-AB55-4B3A-89B7-C564C181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AE1861-CA7F-4020-8FCC-9A3510C5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E8113B-D832-48C6-98D0-1EE32645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FED4F9-5904-4A57-8789-537B9FB1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E842E1-8A32-4787-A1EC-6268645D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B2A8EB-AE58-4117-A717-B69392FF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BC89C9-B8AA-48D6-A86C-9D691E4B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284FC-8396-4D5E-B5F0-E03A7458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5BB21B-6878-44E7-8C50-2DE953BF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5A1D9D-81D4-4F05-9FC2-8F19727B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BFA9E8-E86B-4822-A057-81946C6A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2AA7F0-8A31-4672-8B05-ED474083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4B2C32-D03B-4890-836A-3976F6D9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116BE2-D557-4049-BD1B-2A80D077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C8A691-6EE1-491E-8CD9-FE0A7A6F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891036-AE3C-4C19-BF2D-78A0ACC3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3AAAC8-D7C2-4BAE-8FDA-6EEF261A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BC3A95-C0CF-43EE-97A9-B9367A38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E3034-E933-40C6-991E-49D83968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7FD416-11C1-4DE2-B591-18CA86C5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D3898A-CBBA-425F-ADB3-B9CAAB5A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D3D633-1CA7-4AE1-B855-1EE1128B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12A764-1D3E-4FC1-85EC-C8660061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79D0FA-B072-42E5-A206-02A00863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8E3AA3-B13F-4066-A32A-21814668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4E542B-D1F0-4C04-9807-5B34C46F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A78FF2-630E-43AB-BA4B-37DCB796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707B2E-C181-4416-8413-2D8B22A5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140932-7827-4512-A41E-141239B6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51263-C4AC-4E46-B5DD-27C9FD2A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2C2829-2759-490A-BCCE-7CD9A482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D84363-C093-45A1-8FCE-4C99927F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D57CCA-EE45-42FC-A231-80193CFF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84A53D-2EFC-41EF-8113-11507900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92EAE9-5E1C-40FF-8F04-70BD7994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2FBA2D-7709-480E-9F85-5C8434BD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426B06-3FED-4789-AB1F-BD574E63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A48051-AA80-4BB9-89B9-2AE2E726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879129-5945-431F-BAA3-B54C726A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B21778-493D-45C5-802E-A16B519E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F7203-F30F-433B-865A-87D4181F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756CC3-95A4-4F56-99FC-56F223C2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149E7F-F3A2-4184-AA3E-DC877056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3F797E-D3F1-4330-96AC-92E94461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1CEF92-FCBC-4991-805F-DBD6A3BD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2F2954-E456-4FBD-9017-6D88A693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0982F3-8693-4117-BE78-6EE3E45B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A5CE49-B90C-464B-A65C-CE110228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A5E335-5CF2-40C3-84E8-768BE21B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A2CE8E-D3F8-4F29-A28D-764C41E7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9C34F8-D64A-48CC-8666-3FB05DE1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69A60-1C92-420C-8872-8B465D0F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5693B0-965B-4529-9E02-E2684BF3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D7633D-E008-48A3-B48D-0F1F8B78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1A3B17-9746-4C94-B5A5-0FBF24FE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2E3837-E204-4824-86BF-6157B67A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EDC878-8AB1-4DFC-BF7E-C8642639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1912A3-0970-4F00-8F03-F587DB0F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5A6ABF-5B0F-43E8-A7B6-CE6A71AF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312D2D-A0B1-42C2-848F-EE048728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ED676D-EC2F-425F-8D5C-121E3E9F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DA67A6-A581-4CD2-82F4-DA2C03E2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2E16F-B18A-4E13-B543-4D8FE938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7C898D-F9FD-4728-A840-E2F6ECA6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AD0DBF-4674-4B94-A204-86C7EA4D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C8ABDE-11E3-4C06-B27F-488673B8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54247E-D263-4015-A6CD-C19BB172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1C5306-54D2-48BF-9ABF-C74A7EBF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C48731-5ABC-412E-BC49-C381559C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A48CC91-B282-44E4-A025-E7E225C5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D12D8F3-8103-4510-848F-C46D5319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FEAAA6-FFDF-484C-9903-92D7C987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268150-F70F-4CC5-B58C-EE4AD205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77502-4DCB-4165-9047-135D632F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D24CE5-760F-4213-9A2A-49D8577C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598383-848C-483F-A474-CE534CAB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C28303F-7E35-4D33-A1AF-279DE6ED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142A24-2A47-479A-BE9B-87220301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3720351-EE19-44AA-8223-3A9C10C3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72C80D-3975-4456-9B9C-5265A018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82B73A-9FE2-4085-952D-D695AC70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1FD3276-235E-4F2D-AC21-82B8721F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C74FFE-2801-4AA4-9C91-D17DC66B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F9D813-C343-4802-8DFF-41BB3E00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117AB-5389-4790-956A-058E201D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6A24FE0-B581-47C8-9512-164B87DD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75572F-06E7-4FB9-AD53-629A902C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220966-2206-4D59-A653-8F6FBEE4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64D2FA6-E6EA-41EC-BFC1-3E619275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07CF0C-A817-4317-A3D9-7112D4AF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6DFEBA-16F8-48D9-94E5-CCDCBF4D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7012D1C-7605-4308-AEB9-FA3613A1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1646807-BBB0-4985-B7F7-D0E33E46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4B3D0F-CB21-4B30-9797-40008A26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90186E0-DC9C-4B6F-ABA3-BDB6A626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D2E-A501-45BC-B0C2-9A7855A5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B2BDF-C0A3-471F-96A6-36EB43C0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CE9F16-5F7F-44F7-9A15-507D7854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3081AD-E6AC-468C-95BF-F1685742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EC30E1-6D9C-4ABD-ADB3-4EE0A406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7A2AC8-E75D-42F8-93EB-DF4AF57A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BB8DF69-B13F-4395-859B-7DD9C1DB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1D9521E-102F-447B-AF98-E0EBCDEA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E8B3F4-B1E1-4883-96E5-51B95138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80CB8F-4F7D-45D5-B38B-582D5E57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260538-78BD-499F-9E02-BA032019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7798A9-14D3-425B-98B2-B60A5261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70226-4679-4552-9D6B-80144311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3C990E2-DA43-45C4-942C-114030AA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6BE8AA-4653-4413-BE1F-326507F3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0C2FEE-3ECB-4CBA-9862-C671781E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5C13A1-65AB-475A-9F18-060EC518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21144B-E16F-47C7-8234-36CACF08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4D49425-5F0B-4CDC-B6AE-79926053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33C8D04-1AC9-4904-BAD9-9C5E673D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783B801-5E83-4D32-A920-04B7AB65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3D300C1-7F7E-4DA2-A3E8-586FAF24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6F6658-ED2E-4772-9A99-02A9B904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059EC-3ADD-48BC-B3BD-CB61C0D5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F2E2643-6F8A-4188-BC41-283CD196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91D7D2-34D6-459C-99FA-B7065296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6B1C253-743F-4E3D-BC4B-8218B895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A841596-798C-47DC-9ABD-6627F01A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89F9E28-0CEC-4FAE-B376-DA6F8632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931805-A784-49A6-96E1-17BDFC73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72D1C0-04E7-4F04-84CC-27F435C0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592B675-D395-4D6C-8282-3F5C20F8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D0B53B-29D5-49A8-A02E-F96265AB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F693A91-0296-482D-B091-E442CB0F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80893-5695-426A-88E8-4C60D2A0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48895B-EE0B-4640-B730-5F048088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11BED8-6D23-4EBE-85E7-019870D7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B596A0B-AD50-43C5-9556-7C3C8CD3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3BC35AD-57B1-4097-A098-241F3E82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79E2731-CDCE-498C-A3B6-C31D63C2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C03F66F-531C-4399-A4D3-B28CF071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E49D143-0994-4258-A5AB-C2AE2756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B2FECDD-64C6-414A-AEC8-643AEBF8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7E06F31-9EC6-42D3-B5F7-76C839E7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CE265DA-2028-4555-B224-5A36FBC6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76685-547F-4496-B0C5-3D980116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3A46BA-ABB5-4821-8A73-4D40A8A0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0D1C28-0154-420E-9007-9E1EE3EB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1C0A1A4-8C12-41DD-BF62-E70A3B63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E27EB0F-C5C3-4609-BBD0-61545673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C692E1-3E94-4868-A891-6CD9EED3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614D7A3-C47F-449B-88D0-EF47699C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A34FF59-C9EC-4E9D-8FB2-4F777870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886DB5D-95EE-4F8C-A632-5119CAB6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41D2F1A-F2B0-4622-87C5-D29E3DC0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D1BF2ED-FF0F-4E53-9A2B-4A91E047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A3349-2501-47C4-9069-E688670E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9E4D1C1-1002-4EAA-96E4-CF0C5EDF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23FE52F-8D6E-4906-A342-F1337A36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C4096A2-7E1B-4C7D-8964-97DD62C4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1D5BA6-FD18-4782-BFA3-65A891AF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06F5951-5CA8-42D3-BC2D-554320D0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D617BBF-F37A-4455-9610-07B11F52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50392FA-A7D6-4278-B2D0-87E718CA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53567EC-CB2D-4B9C-8DD3-3C25225A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EA0B74A-9448-4E1F-939C-6D7F746B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C4E0114-941A-498A-A6C6-DFB909D9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32E2D-46FB-49B0-A971-972770BA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960DB40-5535-4BE2-9EB0-541DDB48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2A63E84-2E10-4E84-8010-14E326CB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ECBC616-05E5-452D-A5B3-4CFB9539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58B127-D2F9-4AB2-8CEF-584D1571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09EB8BD-C236-4C2E-B797-BE12F205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2A37FF4-01A6-4871-82E0-B1C8BE47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9E1432C-6B9A-4A29-9D37-0FCB4D1F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7056CBD-8DF0-4AE0-8043-039CDB2D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3A55D84-1837-4FCF-9102-495EA9CE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27DEE3B-4EDE-45DD-A752-90A489BD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4245B-1533-4CEA-B707-9633D4F0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88FD94C-1A6E-46E7-A352-2E84407A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547FF72-3FE2-44BF-8A58-85C54F23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7A10173-463D-4F21-BAAF-78EC49C6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630D55A-266C-478D-A1A8-7F511D6E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18AC7C6-62C0-46E8-BF3F-936CEDDC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4DAA17D-CFFE-4027-B494-63A43C1D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C6EDA58-1358-4A98-B45A-E873DF00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5D0FFF4-15C0-4D46-B177-88354968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01EF698-FFFA-4B15-A6F3-CF948DC0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F16F210-2133-4853-BC63-43B77809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F3033-A4A1-43CD-95F5-D65DF16C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94B90EC-6F7A-4266-BFE6-E4647A79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DAFEC16-88F8-4F8F-8534-89CCBC19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CA9B7FB-2E39-4E74-94DC-D6EF0DE2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3E55E09-A4BB-43C0-9DDB-56D9832F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27D6667-D9D6-4D9D-A84D-C73B82CC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3CE018F-5AB8-40A9-AAD7-C45898C6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5F2F997-FD66-4AB9-AB35-9F9F63FA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85C5922-6A88-4932-AC6A-B4C910C0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FC66454-15B9-4052-AAA0-3E1F0F47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8B09243-0C5F-4E18-A658-20DFA504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DA303-830B-4E27-91DD-2F9FD84D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56AA856-1B76-4B12-A1FB-082DB387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D8BA6B-A049-487E-88A7-9FD8EEE3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DD2ACD3-A806-42D8-B130-8E389387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1213B4D-7F71-4C66-8560-D93E5F0A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2014FE9-51D0-4DF6-997B-DA98EE29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50B496A-84EE-48A8-A071-C4DFDB97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766CABE-0893-406F-AEBC-504D427F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01BF314-A897-4951-853F-B75798E2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492E095-15A1-4D97-9937-4B439F46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F0EE06F-1208-4FE1-ACA0-BCE8FEEF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E89-9A3F-4B0E-9083-7354B96B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E247C-9ECE-430E-8537-C1A5E03F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9DC2C90-1C6D-4938-A22E-A6FEFA26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42045FB-9CD3-4696-BF05-1F218A7A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E6990F2-E15D-41AB-B263-C5EFD350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B2AB38F-CCFD-4EDB-8F57-69DC867E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C356C6B-E00C-44F4-9D34-70A79DB4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2AA0ED2-A5BB-4B6E-B3F1-23708F07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F071F36-D949-4A92-B275-4D1618AA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D106B05-E9B7-445A-B383-E6CEF5BA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9FF6402-A25D-4AFD-B656-8EE56530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02B3630-1424-4EA7-9598-5BC4C459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3E1C1-D587-4EED-8C8A-2EF7D17A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D070470-C9C5-4526-8B12-3251983C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DA0C4C5-81E3-4FDC-A456-40A1672E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59FE0A0-0FFF-4E68-AAB4-CC3912BC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857B451-4F43-4879-A26B-D1AC7B2E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42A8580-56AC-4ABB-816E-F0EBAA88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04F17D2-444E-4011-8F0D-B2316A4B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A8D7848-A969-460D-9D57-17D56BF4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9577BB2-AE11-42B6-9CC5-39774B57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2A16D6D-0F20-4884-BB36-1925EA91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CF51F85-3D28-498D-BEE3-795C9CF5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7ACD6-C7AB-4ACE-9277-29D0B051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1EC562C-16C3-456D-B73E-B1D68E08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8974313-F72A-49DB-82AC-AF6A9194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3978646-34C0-4C6D-87C2-1F0FFCC0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1B18BD4-443C-442F-BBC1-0B8E6BF0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5F146B8-FEB6-4F45-B4C8-F5A5DD6F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8029737-2B1C-4DAA-A94F-33A55DE7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EBB40FF-15CD-47C7-A99F-7CE9A816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B814091-FCE0-444F-B309-A2A55C69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262B86B-7DA3-4935-BAAB-8A69B42D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CD1FD4B-21A6-40A9-8B57-380FBDD4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C62E2-7FD0-411E-B068-949D9BB7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53ACF78-06E0-46DF-97D1-76A90350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7492666-32A6-456F-905B-AF9F305F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38C1289-C008-41BC-8DED-578652A4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FA122DA-839D-439F-A40D-06AB8679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AA38E92-B63C-4D84-BF20-635D7DD5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B7A5BEE-69D7-496A-84EB-0C9DA4F0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3DA19F4-8D41-4069-A183-9E25338D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66B3FDC-E5A5-4CDB-8756-06840112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C1F035B-857E-44BE-93C9-1377BB3B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0FFEF48-DA19-4992-96B6-DD1DDCF0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114F8-F363-47EF-82AD-B3C867C2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068F6AD-C875-4E61-B350-FAE8CB2A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CE14A8D-0258-48E3-9709-29FDC71B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3CFB61E-FD05-4196-B999-1CB9199C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1F9109C-B7C2-4B26-BA3C-81B8EBA3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271F883-D2D3-406E-B3F2-BD306233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7F2A789-2EC4-40FF-BD4C-AE556CE1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FF871C1-5AAF-4D9C-ADC0-9E10365D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5B4ADEA-7ADB-4CC0-9702-BCBEED1C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7E76B1B-2CBD-4A6D-915B-D2937986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C497EFB-CE84-4C84-85AE-9CADAD20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67111-40BF-43E0-AA41-2AB2F121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1D4DD9D-1414-4803-BCC6-C1BA48E0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7F5889E-FD19-4BC9-ABD0-17000761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7A8E4FB-CA7B-4E6D-BF1B-E57BE98D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9D68B92-190A-4C8C-9971-9C9153A8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95A91EF-1CEF-41D6-B79B-67088F10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8FCE211-77C5-4699-A8A7-7F74B2A6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F48EFF6-8A0E-471F-8B12-7E09F233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5B77A73-435B-4685-9F68-66F3FBEB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0413FD5-5DF7-403B-9383-D426BB2A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D37E7E2-913C-4578-BFC1-4432E75C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B1BD3-EE7B-4051-A1D5-6012D504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F900247-63E2-4494-B7BE-718C5B4E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4C3D0AE-8496-472A-99DC-5F5DB360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340174F-36C4-4933-A593-C597154F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49A68CC-780A-4F85-9C90-74266944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3B4E5B5-258D-4B4B-B8C2-FEF90101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2E49B5F-2527-478C-B3CC-E9233B42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4AB22B7-97DC-4E11-BF1F-8848EA92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0357AB1-8314-497C-A80F-5C763A3F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5B3CE5E-A3CA-45E3-B3DA-881BBE25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F751B05-DE51-478F-868A-6E00B4D6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22E02-6785-4D56-970E-E0E7EBE4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4A27687-969D-4C90-8F17-DF5606E4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5359444-6F43-4553-A48E-82B1561D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1506D17-58EE-45B7-ABB7-7B1F5B8F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1442534-6112-458D-9EB5-57754EF8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8C58F06-4811-4C5F-AD22-7AE0A989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8ABB6EA-3338-4309-93C4-A9529E58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894B6B0-54A8-45D8-BF4A-128AE8A2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85565EA-9CB0-44CE-B193-EB02EB83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CFC6086-389B-4B91-815B-5734E9F8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4869B23-973B-4D44-BAD7-1EA1DF61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D1AC8-9DC5-481A-88FB-E8D0C7AF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9DAA0EB-4618-4BD0-8852-36AECC94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ABE9DD7-F276-4391-BFD6-0B1ABF6A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FED9911-32E4-49B9-B367-6584A33A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598A734-5B34-484C-9DD5-4F936B03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CA40B76-E84B-4524-871F-4A09C75F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2A1135D-6248-425E-96FD-4E037333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A81D6CF-8B95-496E-9820-07FE9329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78AF036-3778-4CCC-B66E-47A40081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F22889F-513B-4211-AB56-E34A5F5C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7535AC2-E7A9-4744-8DA8-6B26F48F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37148-65A5-4BC1-853F-8620A1AB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3080C3A-856E-465E-9814-8ECC950A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E09CC84-DA7D-491C-8FA7-E45D77E9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F9ECFEB-8895-4F7C-8332-EC3B65CF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54CEAE8-B82E-4725-9A4A-52D8A03F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5B5C294-4A00-4A0F-8AEA-DBB581D4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883644B-C58F-45B3-8A7C-E0EE3DD8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E8E1721-D451-4BAA-918E-370608CA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F00A9B5-D617-438C-8418-63A24456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4A04FCF-A5E2-4A9B-8AE5-CCD95F02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E7CDE85-1E89-4CBA-BE8C-168BDFC3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0E1-DA2B-4E1D-A659-FB0AB34C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F0536-4339-407E-AB49-30628AB6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0077296-F698-497F-8630-0BFF1E35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2CCF14E-D52B-456B-8265-7C46A50C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D680547-3FE2-4198-A0F7-F70ABFF1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445984A-5E6B-459E-8E9E-A664C611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E781A32-5872-413F-A8D2-DF7CBA41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1ABC8C1-9459-4EA4-939A-736AFA4C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9B4E8FB-364E-4820-B123-11D432F4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BC1FD61-B3BB-41D2-89B8-87EC88C7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47B2639-0218-4EE7-8933-0AFFC13D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979B2A5-5EF3-462B-8848-05793EA2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E6AF1-91D8-4182-9E8B-BF717085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0E43E4F-5663-4FC6-814D-F77AD4E3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26C153D-5986-49E1-8DFA-F5F3D164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BB685CD-F150-4E3D-BC1B-8A0014AC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D9783BD-9404-4649-9B88-5B0BCAFA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8D0D078-464B-4893-9E74-11822D6E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EE762D3-5E75-47BA-BEF5-73EB4211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7660240-6166-4EC5-8798-04C0B3CC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5CCE5F2-A227-4953-9798-972193A7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5B864AA-AB12-4E11-8BD9-BBF56CA0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2E0EC69-1B95-443F-83FA-CC2D1C16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DC3EF-FC1D-43FC-B028-BBCCDF98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B2D8525-7BB8-4161-903E-B850B070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68B167B-E4F3-4F1D-A23B-05C15175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1D5AD1F-0F4D-46E0-A898-78B2AE04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8C326CC-9475-4EDC-8C3B-678DAC49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6BCAF2B-DCF8-432F-A563-C038C841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958D354-545E-4A38-AE09-89D75C43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FACF99F-D8AA-4C69-9878-69CEE336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CBC7C5D-6038-4660-BCF3-D69D7F04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5883F09-E6A1-48FF-89AF-18604637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9CE605C-0F0E-4629-8136-ED563515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ED263-7EC0-41F5-9C0E-BEB4A330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67B70C1-8C2E-4146-9FBE-A4DE24A2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D7CEF86-FF1B-47EB-A923-20BF5C38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D3D0DF6-52AD-4101-A693-39AC474C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98FC71D-3EDF-4BA2-846D-036419C6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F1F32CA-1AF7-4BD9-A622-9A46B2BD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6949096-BC1F-4E94-A484-BD5497AA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7AB9D61-F8D3-4F5E-A250-794A027C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E2FA12D-6E15-4A31-A697-1FA2D88D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C03088A-FB26-4FEC-AC3F-3DF8D3FB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559CCB2-AC82-4196-98B0-AF3EBB70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112AD-2298-4A8A-8A28-21EFD4DE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9D05CFB-F3E8-4E75-A5A3-124E8C9D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BD92CCD-B51D-4A04-A3E1-C649C345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3A43E11-046A-461A-96AC-2FCF696E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F37CE32-395D-469B-81C6-963B80F2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3F54605-FAE0-4496-9DAC-5939832C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E3AB2B0-468C-45A2-8A75-0FA5CE83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2D57FF5-0922-423F-9A11-8265928D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B309652-805D-4EEA-AA04-0FBE5A3C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0D9980F-1E00-4908-8676-489DAD2C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76FCDF3-0270-4E84-BC32-C61B6FF4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2D239-EF1E-40CD-8495-8623A503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B70DC3C-52BC-46F5-8236-E1534D06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9C23C00-CE4D-468A-97E8-527FDF73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499A854-6B57-4275-B969-DBF04330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E629E29-10D1-4521-ABD3-547A35DB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7AFE9E6-0483-4536-A59E-7CE355BB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FDA7332-4BA6-4C56-822F-4C0485F5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5612258-6C19-409B-93B2-5854FF05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E6E7C46-50D5-4766-8B28-C6E8DAA3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893060C-CF3D-47A0-AD04-11209EBF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D15354D-AFB4-4A14-B7AB-6A282C19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E3514-9637-4C8E-8F80-FD111053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E428396-31BD-4331-81DC-A49CCF97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AD3A471-CEDC-4A24-AB8B-4FB4B93F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E28E396-D7E3-4A84-9E0F-62501243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A37EFB5-5E8B-48EF-BCA9-9FB27DCA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DCE2E37-70CD-489D-A756-21AB1484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372FADD-B7A4-4B12-AA96-AD4F0275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E996F67-07EE-40C9-8FC5-6A8FA756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9315229-26EF-448E-9E46-7CD20F2D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27B7482-970F-4E57-BDE5-B5FDC094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FCA800C-6527-4CFA-A6CA-D9BBD9EE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897CE-DD78-4215-9F5B-C0B62DEB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D443517-AE21-4D04-AFA7-CBCB0D81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792F461-88FC-4AC3-BA0B-0B960354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11E625B-F7FC-48DC-8241-59871D8D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1A2393E-791E-4E73-9E99-8B1EA03D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6B97BA2-E737-4322-B294-1777A61A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CC9AB24-C0BC-4A53-905D-F390BFCC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4029920-1BE0-4911-8FA3-7EEBF88E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22BEA07-A85F-41CC-96D0-72B29543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C38B800-9280-4A72-B9C3-5936A608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437F08B-D91B-4E59-B005-0BADC2EB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EC7C5-CF69-4482-A712-2B70F5D3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9DC7F64-0415-466A-8B5E-8FE3AF36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8E85E59-8800-4B52-8557-7C70B6B0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CBC203C-CCFF-40C2-B1DF-2BA84CAB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AB02B6B-EA55-47B2-A53D-DCEB1847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1F3F33A-363C-48B7-8B1B-D40D3FC8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85FB585-0E7F-4707-9F18-A3B81B6B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5127894-6E26-42C4-A367-9EA32E07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B21A804-722D-4C72-B619-0ACD3F8C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405CA54-038B-4BF4-B286-483C66E8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7A42873-1F6C-4C55-9B79-97CCD981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311B3-7DCC-4780-AD04-9CED9FC3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1E553A3-EB2E-4937-850F-FE868DF6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ED66622-80C4-4FE5-AFFC-5A400974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D1F49E8-5A93-4BA9-8168-5D1A4CCD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B4688AF-4230-4F33-81AA-1BF25EB6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A9869F7-F8A8-49E8-A38F-44049704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3AF65FD-3976-4F84-8CF9-329FACE1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4D8F01F-B94C-4F92-A0A0-91608740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EDE74B0-E6D1-4B46-B589-BA48172E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B4F2C4A-C4B7-4A32-9919-E84A9F7B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E14C03E-D753-4AE5-ABC5-6B522309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FE8-DD47-4749-ADCA-2579339F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0F4D4-E061-49FF-9335-8F9B73B5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63834DE-B7F1-4955-A933-C9085466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F9108A5-3F91-4A7B-896E-619B56DB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908A5EA-28AA-4D89-A62E-C954E10C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599D009-C937-4424-A00E-6C55A718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6B6D5B1-3669-4788-A371-7274606E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4CB1EB4-254B-4D1B-8ED2-F2871ED8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B35C520-A181-4A68-9954-3900F01E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4E30DE6-ED2B-427C-B934-10874734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09724BA-BCA9-4EE4-BE20-BA35B8FC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64D0C42-7196-4914-A54D-E51F16BC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C7A4F-19DC-4D83-9175-E5ABE397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74A0995-6C74-455F-AD36-803B4689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34D6096-ED25-4741-9D95-EF05ECEE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A556176-EE91-45E7-BC04-F2692979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227541A-B125-4DE6-8182-C160E083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C413AB0-A140-46E3-8251-4AEEE2CA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A5CD3B3-8EB7-4D1C-BEEA-0DE08BC7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69BFCB7-D46F-4262-BBF5-477CBF5A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A4E2793-FBD9-4081-B39C-933D19EE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F9E5CD9-E06B-4165-8339-BA81EB56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7BD8B64-FA97-41FB-B54D-1818CA42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CB730-774E-46EF-B7E8-B84D96AF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0E2D1E6-C517-487A-8733-1F44DFBD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6E4630E-AA8B-4BD3-A1CF-F3EF9E8D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385BE0E-F999-46A2-89F4-ED35A196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8A3B85C-E700-45D8-8AC0-455A9E5A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9C33F11-361D-470D-BF6A-1BA035B4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8B344E0-E6BE-450D-993E-9F5C3D21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711ED8A-BEB8-49A3-8031-F8531631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8714649-ED43-434E-A207-F968972C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3D8E47D-03B0-47EB-BA9A-D71FF119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5798EE2-252B-4FEA-9476-ECDCD2E3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D3636-8B46-418A-9D1A-616E655A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7D33DAA-C8FF-41DF-901D-618089A6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D887B2D-60D5-469C-9EAF-A172F758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BA0C942-6619-4FDC-BD63-19369CF3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3EF6879-D12F-427A-8E42-66359642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E3869BF-1528-4788-A525-CE453BA0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AE4020F-EC7B-423F-B218-F0E78B0F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61D540C-1946-4245-A831-4EECDF00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B3E633B-7355-40A6-AFF7-9E059841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8CBE381-4409-473A-A04F-0539FA28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82E774F-7466-4F42-BF1D-6E8AD456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8FF49-36B8-4BCB-89E0-36997C8B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2F78CE6-7C1E-47E7-809D-697F9F07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175B8C3-027F-40E6-8B3C-723E325F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7F57F29-4C4F-4173-BDF1-E1908F29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E4ED98E-3759-41EE-B66B-A5C3D4B9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7704EAC-86D8-447B-9C4B-2F532D8D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BB02323-B189-4E86-B513-A2A7861A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2A832AC-5DE6-4FDE-81F7-71666B6F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F0523C7-1C4D-4CB1-9AC0-599FCB9A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3060347-0896-4F6C-86B6-68560DAA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E2F4732-2F11-4341-AD5F-61D48B73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3C341-E0F0-43B9-AA71-8F5A2DF3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122B9D4-8C71-4C87-8B83-2EE49776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2D695D7-AD82-42B6-8AA5-4B5E2DB0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ED0D947-140B-475C-B08B-E1880635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22AFD7E-04C1-4530-A03F-487B3D3B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EA5DF6F-0687-438F-B9B9-A4C93E82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4198D58-6FA5-4D59-86FE-E6C0FB8A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8AA12CE-997A-4E10-8F6C-8028E385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468AA77-5F26-4C80-8E48-F8ACBCCF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79D6531-081F-4CF6-A55D-03CC83DF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6F16CF9-6A1F-48BD-B315-9D4E42EF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10BC1-286E-4F63-A7DA-2C7713AF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61A9611-0AF5-4DB6-8A84-2B914ABD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0CDA5A3-AC99-41BC-805A-BFB4576C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5BD90D4-127A-4087-90B8-02CFC11A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EBF2505-3F41-455B-A5AC-7D17F346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A992356-37F5-43C6-9452-87C60501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0ABCB0A-367F-4730-8370-1DBE0F41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1E3E950-7969-46C2-874A-4E879D51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62AF211-A493-4EE5-8ED2-8DC3AEB5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A014BE5-F226-460C-856D-0B0E3403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3940DD6-0436-4C6F-8F41-3808FB92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9778E-D7D6-4B2B-B753-F2128921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08A6A51-A7C2-4BEC-A52E-D471F779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58730B5-7157-4366-9695-6E991067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A45CDB9-27FB-40B7-BFFB-916CB717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786AE8E-C1AA-4044-95FD-0494C57D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E57E776-A0EE-4D7B-B3CA-2D194551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0265E59-326E-4FEF-A9E1-425E4146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D047B29-92FC-452A-9216-9E857E63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6DC674A-9F5A-450F-A391-B70BF8C8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6533E5B-11B8-4777-A3FB-8C0011ED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A074141-5862-411E-AF14-F7880D42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BF81C-59F6-4EB1-9FF6-8DC65D95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CE94FA4-7EF4-41B8-BB59-C2CF62C8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A8702A7-C226-48D7-9E58-E4308B4B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490F906-D213-410C-89D7-30165FFE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B486FB0-AB78-4410-A58D-F43D89EF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4CA9CB5-FEF4-4B83-BF1D-D7E1C589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01762FD-72DB-4F1C-A405-3BD63B19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E1E6D20-D890-4A96-A71C-669030DA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57F04B6-A183-461C-9101-7DD77ABA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325D491-B91B-49DD-965B-DBE6E545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10786C6-D4F7-4137-A6AF-A4993D5B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46215-12C8-46F3-9F54-154CA6D9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598DCB7-D31F-47F0-ACB7-A2D9B5B6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6F23CE1-376A-4B93-8F49-A235E014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3EC39D1-FB05-4C7A-BAAF-98B8D938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2D3997D-8957-4DE7-B35E-9B8BC18F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3B3A68B-1E5C-4575-8935-E4D53ACE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D569CC6-1891-4F2B-B6E1-A92BCC52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0692393-78D3-4D7E-8139-46B56F56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084FE7F-B974-4814-A370-37571940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F3CBEC6-B792-4E5C-A727-2191A3C5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7C1E52B-D59F-48D3-886F-E478C4D3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142-EB35-43EC-B8CB-9CEF826E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30D2F-AF90-4780-8A87-09C6A596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0767607-5114-4D6E-8315-6A25E252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690FEAA-AB6F-45CA-87FA-43F68F84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8B07E17-0D45-4BBD-898C-9A246274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4EDC85F-55FC-41F8-AAEF-ED270DC2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DB9ADA0-4057-47FD-9EB0-3E571055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FD35DC9-B873-4D56-A143-47E555A8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C136D05-6BD4-44F6-A51A-620EEFCE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A4407A0-9BDA-4A4C-9EFA-BCE5D3F4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7868195-1839-492B-AB9A-4C7B7952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111E6D6-94D5-4668-9F7C-8E905AE1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463C1-B897-4F23-9144-AB9D5431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031E2E4-F365-4448-8F54-B97E812D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881FA6B-0AAE-47F1-BD3A-1E24FA23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A8FF0B3-6B65-42D2-9CCF-D6D89BA5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47F6146-0773-45E6-9492-4F70E1CD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7DA2FAC-2DBB-440B-9A30-25B354EA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8F89D54-D12C-4D39-8A18-8192C11A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69B6F00-2FB3-41FF-A038-D877D54B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2F4BBF4-5F17-495C-97EE-1A33EA0E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741FF0C-D72E-4447-B010-BBE5455D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11CAB93-5223-4C68-8A35-CA99B2D2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81D73-57D6-43B5-B052-9FC4F521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2179C04-8214-4282-B0E0-E9CBD318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981A039-0954-41DA-9C6F-C25AD4EA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BD69322-9F3D-45AF-BECC-6823ACC9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EFE2056-1EF3-47CF-BD4F-964A9650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65A6D84-CD01-4281-BE62-8C6E39BE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4561E0A-2234-4932-B3D2-4C16A361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B00860A-96C3-4D80-B6B5-ECB6984C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ABFBC15-7609-4003-8BE4-FBBA08AA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4E26B25-0841-4988-98B6-DA436DD5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815C982-DA00-47D8-B6A6-B2E427AE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D6FC0-E986-43E4-8242-450F6FD6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AEA6FF9-0615-4677-B40B-A25CA4D9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B0767B5-B717-438E-8011-F84340B1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D9300EF-15B5-4790-B4D0-93C059ED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C54F8F3-038F-48E6-925D-A2316088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BCEE93E-AF48-4ACC-8C33-EC16B857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8685ABD-C5E7-4855-BD40-583BCA8A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E6E2197-3779-4D89-9AAD-9F6F4135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82AC3D1-535E-4408-BFBC-28D9AD43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6572A54-856C-4B5B-B6CD-C4E40567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C23DB00-3436-4685-831C-B0558232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4E786-81CA-47DF-8CCD-BBD4708C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3622532-36C2-46C6-942F-79EA3A47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896E17D-F455-4ABB-B9F4-D0B27B81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78A5DAD-853F-4D19-935F-255B20D3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9C918E9-8A56-40C2-B752-0F4B630A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06E4C53-9FAF-4AB2-A01A-FC5066E3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B3378A8-699C-420C-B8B4-3C28079E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1C0A38D-85EF-4981-8985-4E9A469D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E958FEB-9F5B-45CE-BD80-B72252B5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70B1027-537D-4565-841F-4F632624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1348CED-2C96-4D5B-837D-077EA1DB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80C85-5EE9-411F-9CB4-11286AFB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133E8EB-B2A9-4D7B-A278-C317C492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3592E15-77B3-44CB-8C9A-3D03A4A1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637F010-0623-4915-B08C-06CC23D0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2762959-6843-4804-A85F-4C33EF0D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2BDDE43-CA25-482D-9808-B0B38F06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36516B9-7CC7-47D6-9893-0C8B47E2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5484475-C024-40C3-8FE1-448CCE72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C11BDEC-B60E-40C5-A600-A510B809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2CCC31D-941D-434E-870A-E901501D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C9E8FC1-13BA-4E65-BAA6-7BA5E128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8F771-0210-45CA-8A08-4F9A4E62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4BFAB03-68A6-4920-9ACD-3ACE6A37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8AE6E24-A0D5-4183-B86B-1AAE2A21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DCE4DB8-256E-40A0-8806-7831F3A4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1A0851A-6F4D-414C-85A2-3258BF5E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8EE7EAF-4394-4BF1-8CFD-6FB9608E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C84352D-0EDC-4305-AE99-FD6293A7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45132F6-8585-4AFB-8B3B-9F7D28BE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FE56171-CA8E-4036-AE1F-85BCBBE4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6ED0543-EA5E-4FBD-92E4-84115E4F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3FC7940-3A87-4AE2-819B-CE1D5EB3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FD876-F99D-47CF-A909-76896857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DA84A75-2DD6-4296-809C-2985BF5F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BBEFF1A-5B3E-49CC-9A2C-3703C34C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60C404A-ACE4-4941-878B-6BF6BBE1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00EDE3F-63BA-433D-BC36-99AAA88A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FECECE6-0C88-4107-AF8C-DF18EBB1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FE4924A-8818-4CEB-9833-392CA4AD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3E815C2-7F6F-47E5-B21A-CD613611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439E3-9798-4AEE-87B8-DDB0C2C1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BB134-9A43-4810-9A69-41884521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478-E63C-4ED1-8F63-7A077AB2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CFBD6-A13A-4998-A391-6A3EB242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6E762-BC36-4A99-A7CA-729F8131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04899-67FC-4793-93B3-68DCA989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1189E-357C-48C4-8318-EA544B12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12D7B-173D-458D-9E05-787D1BA7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326BD-6598-45EF-9C60-E6FF8E32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ADE54-4C90-4B43-ACC6-885D6C38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31925-C0F0-4EB5-8CC9-8DCC9745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3E145-AFD1-4986-B11E-DD17591A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F5686-8B41-4FB5-803D-31E0FC10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1CA5-5A2B-4612-BBC8-93EA8FBD5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845D-F8FB-4D2D-9318-4686409D7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49B9-B3C3-4E65-A16C-02D22FE67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666B-5B99-4B17-8A10-8EFDCFBDC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2E0E-5CE4-4510-8687-A1329B58C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B882-C0D4-48F3-8713-CDFA80B31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6E3E-43ED-45A0-815A-0B497998A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049A-8878-4D12-A322-23893E8CB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1BD4-B70E-4D53-AC73-C67BE8CB5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DC43-E3B7-41E9-AEFD-7D687F65C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AC21-BDE6-4281-898C-D5BD89698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140D-1826-41A8-9326-3AC997667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BE05-8E7C-4726-B530-60054231B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4D36-2EB1-47AA-9AD0-25D36758B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D5A6-9495-4CCE-A867-EB01A59F8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2CC0-DFEB-4B11-8816-4C1995442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4F49-BC23-41FB-AFD0-6030AAE03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F9FF-DBA0-451A-90B1-99B663C05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47B7-6B0A-4B2E-8276-C6230AB79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01AF-159B-4711-9335-754D04222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AFB6-6CD1-44D4-9983-070C4D901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C027-3A43-43DB-B906-A9552C21A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E13B-FB38-4055-865D-FFC708F54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0280-3974-4E66-9053-84B0AFE37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5D47-F590-4D90-8DDD-D1457F3F4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CD69-BF1A-4C7E-AF04-B78A03B27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4ED0-6F60-4E7A-ADCF-20DA71374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31AF-B90D-4294-A242-8FB868C3F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3C5F-7902-4C3B-8B15-28DDE4FF7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5681-FD14-498D-B073-36979C644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00D0-98FF-485B-996E-D0F9AC1A6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054B-9427-42F5-A3D4-E648DCDB5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15D5-45F8-4EBE-BA6A-29448DFFA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0027-B36E-4F5F-97C1-EBB95A2E5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DEE9-32CC-43BB-AB1A-00B3C621E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4271-46AB-4B97-BAE1-A31817A74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1428-59D4-4C7E-AFAA-DD8317879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6DFA-13FD-4411-9095-CB15D5316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DD46-18A5-432C-B146-30954CEAC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3171-FA55-489C-BB09-6992ECE09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981F-0502-48E6-8E71-92D10BBCD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C577-EEE8-4BE4-91CE-6B2D79B9C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B0DD-2F68-4FCC-9A2B-91FDED3DB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1B42-9D37-43AD-B054-5DD0A7F61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587C-68EC-4483-AF23-5CF797055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D11A-9449-4E1B-9EBE-FC42339CF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D89A-7AB1-4F07-94EB-DD03B8FFE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5A6A-4D79-46C1-8FCD-5CF6D8AAB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1FFB-BC19-478E-96CD-5CED57B1F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E0B3-1DE5-4102-8FA6-6A7D256CB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29C0-AB73-4783-8630-C113DCAF0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7F57-5DB9-44FE-B1CA-2A05C8BD6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87EB-D0E7-4663-83E0-6539C4B4F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AEC5-9082-44BD-98A5-73C823225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38FC-8AEE-434E-BDEA-AEC0DA595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A9CB-6393-4FE3-A4F8-5837B584C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D95D-CF0F-4675-86E1-0A31B23EE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CB2C-61B9-472D-97B9-CB67028B4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E3FB-3AD3-4B89-88AA-B458A2586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6576-E0D0-4AB5-82A6-2A51E3B13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9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9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9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0F5C-ACC5-43E3-A79A-7AC6973CD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 type="dt" idx="19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 type="ftr" idx="19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 type="sldNum" idx="19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B1FA-4574-4A30-864D-9B0D7C9DD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dt" idx="19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 type="ftr" idx="19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 type="sldNum" idx="19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4339-B3F7-4441-8DA0-B9EE16E7C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9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20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20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37B1-B871-4768-88AC-26419B938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dt" idx="20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ftr" idx="20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 type="sldNum" idx="20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0BF1-2286-494D-A1D4-934BF1007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 type="dt" idx="20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 type="ftr" idx="20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 type="sldNum" idx="20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2616-F204-4B63-8D47-59CFFD613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BD51-57CD-4F9B-985E-D205CA0C6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 type="dt" idx="20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 type="ftr" idx="20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 type="sldNum" idx="2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C0E3-858A-4CE6-9E05-97768FF63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 type="dt" idx="2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 type="ftr" idx="2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 type="sldNum" idx="2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487E-F904-4DD5-A1BF-FEDD79731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 type="dt" idx="2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 type="ftr" idx="2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 type="sldNum" idx="2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8AC6-33ED-4305-88AF-8FC0CD1C4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dt" idx="2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 type="ftr" idx="2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 type="sldNum" idx="2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3412-42BF-40A1-892D-18B6161C5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613B-CC03-4FC6-91B4-4FB005D8C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1542-AE1B-4E3D-AE7A-1E935B5C8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6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tion and Rotation Sym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0" name="Group 3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211" name="Group 4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212" name="AutoShape 5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AutoShape 6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AutoShape 7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AutoShape 8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AutoShape 9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7" name="Group 10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218" name="AutoShape 11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AutoShape 12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AutoShape 13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AutoShape 14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AutoShape 15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3" name="Group 16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224" name="AutoShape 17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AutoShape 18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AutoShape 19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AutoShape 20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AutoShape 21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9" name="Group 22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230" name="AutoShape 23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AutoShape 24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AutoShape 25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AutoShape 26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AutoShape 27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5" name="Group 28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236" name="AutoShape 29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AutoShape 30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AutoShape 31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AutoShape 32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AutoShape 33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1" name="AutoShape 34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AutoShape 35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AutoShape 36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AutoShape 37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AutoShape 38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AutoShape 39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AutoShape 40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AutoShape 41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9" name="Group 42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250" name="Group 43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251" name="AutoShape 44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AutoShape 45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AutoShape 46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AutoShape 47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AutoShape 48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6" name="Group 49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257" name="AutoShape 50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AutoShape 51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AutoShape 52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AutoShape 53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AutoShape 54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2" name="Group 55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263" name="AutoShape 56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AutoShape 57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AutoShape 58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AutoShape 59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AutoShape 60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8" name="Group 61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269" name="AutoShape 62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AutoShape 63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AutoShape 64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AutoShape 65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AutoShape 66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4" name="Group 67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275" name="AutoShape 68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AutoShape 69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AutoShape 70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AutoShape 71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AutoShape 72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0" name="AutoShape 73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AutoShape 74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AutoShape 75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AutoShape 76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AutoShape 77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AutoShape 78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AutoShape 79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AutoShape 80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8" name="Group 81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289" name="Group 82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290" name="AutoShape 83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AutoShape 84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AutoShape 85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AutoShape 86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94" name="Group 87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295" name="AutoShape 88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6" name="AutoShape 89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AutoShape 90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8" name="AutoShape 91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9" name="AutoShape 92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0" name="Group 93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301" name="AutoShape 94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2" name="AutoShape 95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AutoShape 96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4" name="AutoShape 97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5" name="AutoShape 98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6" name="Group 99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307" name="AutoShape 100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8" name="AutoShape 101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AutoShape 102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0" name="AutoShape 103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1" name="AutoShape 104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12" name="AutoShape 105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AutoShape 106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AutoShape 107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AutoShape 108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6" name="Group 109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317" name="Group 110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318" name="AutoShape 111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AutoShape 112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AutoShape 113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AutoShape 114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2" name="Group 115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323" name="AutoShape 116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AutoShape 117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5" name="AutoShape 118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6" name="AutoShape 119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AutoShape 120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8" name="Group 121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329" name="AutoShape 122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0" name="AutoShape 123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1" name="AutoShape 124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2" name="AutoShape 125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3" name="AutoShape 126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4" name="Group 127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335" name="AutoShape 128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6" name="AutoShape 129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7" name="AutoShape 130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8" name="AutoShape 131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9" name="AutoShape 132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40" name="AutoShape 133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AutoShape 134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AutoShape 135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AutoShape 136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4" name="Text Box 139"/>
          <p:cNvSpPr/>
          <p:nvPr/>
        </p:nvSpPr>
        <p:spPr>
          <a:xfrm>
            <a:off x="6207120" y="328788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Text Box 140"/>
          <p:cNvSpPr/>
          <p:nvPr/>
        </p:nvSpPr>
        <p:spPr>
          <a:xfrm>
            <a:off x="5583240" y="550404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Text Box 141"/>
          <p:cNvSpPr/>
          <p:nvPr/>
        </p:nvSpPr>
        <p:spPr>
          <a:xfrm>
            <a:off x="2865600" y="5510160"/>
            <a:ext cx="5299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Text Box 142"/>
          <p:cNvSpPr/>
          <p:nvPr/>
        </p:nvSpPr>
        <p:spPr>
          <a:xfrm>
            <a:off x="2149560" y="324180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Text Box 143"/>
          <p:cNvSpPr/>
          <p:nvPr/>
        </p:nvSpPr>
        <p:spPr>
          <a:xfrm>
            <a:off x="4175280" y="1819440"/>
            <a:ext cx="5299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9" name="Group 144"/>
          <p:cNvGrpSpPr/>
          <p:nvPr/>
        </p:nvGrpSpPr>
        <p:grpSpPr>
          <a:xfrm>
            <a:off x="2781360" y="2281320"/>
            <a:ext cx="3370320" cy="3370320"/>
            <a:chOff x="2781360" y="2281320"/>
            <a:chExt cx="3370320" cy="3370320"/>
          </a:xfrm>
        </p:grpSpPr>
        <p:sp>
          <p:nvSpPr>
            <p:cNvPr id="3350" name="Oval 145"/>
            <p:cNvSpPr/>
            <p:nvPr/>
          </p:nvSpPr>
          <p:spPr>
            <a:xfrm>
              <a:off x="2781360" y="2281320"/>
              <a:ext cx="3370320" cy="3370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1" name="Group 146"/>
            <p:cNvGrpSpPr/>
            <p:nvPr/>
          </p:nvGrpSpPr>
          <p:grpSpPr>
            <a:xfrm>
              <a:off x="2853000" y="2310120"/>
              <a:ext cx="3211560" cy="3057120"/>
              <a:chOff x="2853000" y="2310120"/>
              <a:chExt cx="3211560" cy="3057120"/>
            </a:xfrm>
          </p:grpSpPr>
          <p:sp>
            <p:nvSpPr>
              <p:cNvPr id="3352" name="AutoShape 147"/>
              <p:cNvSpPr/>
              <p:nvPr/>
            </p:nvSpPr>
            <p:spPr>
              <a:xfrm>
                <a:off x="2858040" y="2314800"/>
                <a:ext cx="3206520" cy="3047400"/>
              </a:xfrm>
              <a:prstGeom prst="pentagon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AutoShape 148"/>
              <p:cNvSpPr/>
              <p:nvPr/>
            </p:nvSpPr>
            <p:spPr>
              <a:xfrm>
                <a:off x="2858040" y="2314800"/>
                <a:ext cx="3206520" cy="3047400"/>
              </a:xfrm>
              <a:prstGeom prst="pentagon">
                <a:avLst/>
              </a:prstGeom>
              <a:solidFill>
                <a:srgbClr val="edbf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Line 149"/>
              <p:cNvSpPr/>
              <p:nvPr/>
            </p:nvSpPr>
            <p:spPr>
              <a:xfrm>
                <a:off x="2858040" y="3476880"/>
                <a:ext cx="32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Line 150"/>
              <p:cNvSpPr/>
              <p:nvPr/>
            </p:nvSpPr>
            <p:spPr>
              <a:xfrm>
                <a:off x="2853000" y="3481560"/>
                <a:ext cx="2590920" cy="18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Line 151"/>
              <p:cNvSpPr/>
              <p:nvPr/>
            </p:nvSpPr>
            <p:spPr>
              <a:xfrm flipH="1">
                <a:off x="3478320" y="3478320"/>
                <a:ext cx="2584440" cy="18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Line 152"/>
              <p:cNvSpPr/>
              <p:nvPr/>
            </p:nvSpPr>
            <p:spPr>
              <a:xfrm flipH="1" flipV="1">
                <a:off x="4459320" y="2316240"/>
                <a:ext cx="979560" cy="304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Line 153"/>
              <p:cNvSpPr/>
              <p:nvPr/>
            </p:nvSpPr>
            <p:spPr>
              <a:xfrm flipV="1">
                <a:off x="3486600" y="2311200"/>
                <a:ext cx="974520" cy="303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Freeform 154"/>
              <p:cNvSpPr/>
              <p:nvPr/>
            </p:nvSpPr>
            <p:spPr>
              <a:xfrm>
                <a:off x="3853080" y="3476880"/>
                <a:ext cx="1209960" cy="1171080"/>
              </a:xfrm>
              <a:custGeom>
                <a:avLst/>
                <a:gdLst/>
                <a:ahLst/>
                <a:rect l="l" t="t" r="r" b="b"/>
                <a:pathLst>
                  <a:path w="762" h="738">
                    <a:moveTo>
                      <a:pt x="141" y="0"/>
                    </a:moveTo>
                    <a:lnTo>
                      <a:pt x="615" y="0"/>
                    </a:lnTo>
                    <a:lnTo>
                      <a:pt x="762" y="456"/>
                    </a:lnTo>
                    <a:lnTo>
                      <a:pt x="384" y="738"/>
                    </a:lnTo>
                    <a:lnTo>
                      <a:pt x="0" y="459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Freeform 155"/>
              <p:cNvSpPr/>
              <p:nvPr/>
            </p:nvSpPr>
            <p:spPr>
              <a:xfrm>
                <a:off x="4086720" y="2314800"/>
                <a:ext cx="749160" cy="1158480"/>
              </a:xfrm>
              <a:custGeom>
                <a:avLst/>
                <a:gdLst/>
                <a:ahLst/>
                <a:rect l="l" t="t" r="r" b="b"/>
                <a:pathLst>
                  <a:path w="472" h="730">
                    <a:moveTo>
                      <a:pt x="0" y="730"/>
                    </a:moveTo>
                    <a:lnTo>
                      <a:pt x="232" y="0"/>
                    </a:lnTo>
                    <a:lnTo>
                      <a:pt x="472" y="728"/>
                    </a:lnTo>
                    <a:lnTo>
                      <a:pt x="0" y="73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Freeform 156"/>
              <p:cNvSpPr/>
              <p:nvPr/>
            </p:nvSpPr>
            <p:spPr>
              <a:xfrm>
                <a:off x="4835880" y="3470400"/>
                <a:ext cx="1228680" cy="726840"/>
              </a:xfrm>
              <a:custGeom>
                <a:avLst/>
                <a:gdLst/>
                <a:ahLst/>
                <a:rect l="l" t="t" r="r" b="b"/>
                <a:pathLst>
                  <a:path w="774" h="458">
                    <a:moveTo>
                      <a:pt x="0" y="0"/>
                    </a:moveTo>
                    <a:lnTo>
                      <a:pt x="774" y="0"/>
                    </a:lnTo>
                    <a:lnTo>
                      <a:pt x="148" y="4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Freeform 157"/>
              <p:cNvSpPr/>
              <p:nvPr/>
            </p:nvSpPr>
            <p:spPr>
              <a:xfrm>
                <a:off x="4467600" y="4206960"/>
                <a:ext cx="971640" cy="1152360"/>
              </a:xfrm>
              <a:custGeom>
                <a:avLst/>
                <a:gdLst/>
                <a:ahLst/>
                <a:rect l="l" t="t" r="r" b="b"/>
                <a:pathLst>
                  <a:path w="612" h="726">
                    <a:moveTo>
                      <a:pt x="612" y="726"/>
                    </a:moveTo>
                    <a:lnTo>
                      <a:pt x="0" y="278"/>
                    </a:lnTo>
                    <a:lnTo>
                      <a:pt x="382" y="0"/>
                    </a:lnTo>
                    <a:lnTo>
                      <a:pt x="612" y="7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Freeform 158"/>
              <p:cNvSpPr/>
              <p:nvPr/>
            </p:nvSpPr>
            <p:spPr>
              <a:xfrm>
                <a:off x="3480120" y="4203720"/>
                <a:ext cx="981000" cy="1155600"/>
              </a:xfrm>
              <a:custGeom>
                <a:avLst/>
                <a:gdLst/>
                <a:ahLst/>
                <a:rect l="l" t="t" r="r" b="b"/>
                <a:pathLst>
                  <a:path w="618" h="728">
                    <a:moveTo>
                      <a:pt x="234" y="0"/>
                    </a:moveTo>
                    <a:lnTo>
                      <a:pt x="0" y="728"/>
                    </a:lnTo>
                    <a:lnTo>
                      <a:pt x="618" y="28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Freeform 159"/>
              <p:cNvSpPr/>
              <p:nvPr/>
            </p:nvSpPr>
            <p:spPr>
              <a:xfrm>
                <a:off x="2858040" y="3473640"/>
                <a:ext cx="1222200" cy="732960"/>
              </a:xfrm>
              <a:custGeom>
                <a:avLst/>
                <a:gdLst/>
                <a:ahLst/>
                <a:rect l="l" t="t" r="r" b="b"/>
                <a:pathLst>
                  <a:path w="770" h="462">
                    <a:moveTo>
                      <a:pt x="770" y="0"/>
                    </a:moveTo>
                    <a:lnTo>
                      <a:pt x="0" y="2"/>
                    </a:lnTo>
                    <a:lnTo>
                      <a:pt x="626" y="46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Freeform 160"/>
              <p:cNvSpPr/>
              <p:nvPr/>
            </p:nvSpPr>
            <p:spPr>
              <a:xfrm>
                <a:off x="4462920" y="2310120"/>
                <a:ext cx="1595520" cy="1157040"/>
              </a:xfrm>
              <a:custGeom>
                <a:avLst/>
                <a:gdLst/>
                <a:ahLst/>
                <a:rect l="l" t="t" r="r" b="b"/>
                <a:pathLst>
                  <a:path w="1005" h="729">
                    <a:moveTo>
                      <a:pt x="1005" y="729"/>
                    </a:moveTo>
                    <a:lnTo>
                      <a:pt x="240" y="729"/>
                    </a:lnTo>
                    <a:lnTo>
                      <a:pt x="0" y="0"/>
                    </a:lnTo>
                    <a:lnTo>
                      <a:pt x="1005" y="729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Freeform 161"/>
              <p:cNvSpPr/>
              <p:nvPr/>
            </p:nvSpPr>
            <p:spPr>
              <a:xfrm>
                <a:off x="5072400" y="3471840"/>
                <a:ext cx="990720" cy="1885680"/>
              </a:xfrm>
              <a:custGeom>
                <a:avLst/>
                <a:gdLst/>
                <a:ahLst/>
                <a:rect l="l" t="t" r="r" b="b"/>
                <a:pathLst>
                  <a:path w="624" h="1188">
                    <a:moveTo>
                      <a:pt x="624" y="0"/>
                    </a:moveTo>
                    <a:lnTo>
                      <a:pt x="228" y="1188"/>
                    </a:lnTo>
                    <a:lnTo>
                      <a:pt x="0" y="462"/>
                    </a:lnTo>
                    <a:lnTo>
                      <a:pt x="624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Freeform 162"/>
              <p:cNvSpPr/>
              <p:nvPr/>
            </p:nvSpPr>
            <p:spPr>
              <a:xfrm>
                <a:off x="3481920" y="4653000"/>
                <a:ext cx="1957320" cy="714240"/>
              </a:xfrm>
              <a:custGeom>
                <a:avLst/>
                <a:gdLst/>
                <a:ahLst/>
                <a:rect l="l" t="t" r="r" b="b"/>
                <a:pathLst>
                  <a:path w="1233" h="450">
                    <a:moveTo>
                      <a:pt x="0" y="450"/>
                    </a:moveTo>
                    <a:lnTo>
                      <a:pt x="1233" y="450"/>
                    </a:lnTo>
                    <a:lnTo>
                      <a:pt x="621" y="0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Freeform 163"/>
              <p:cNvSpPr/>
              <p:nvPr/>
            </p:nvSpPr>
            <p:spPr>
              <a:xfrm>
                <a:off x="2862720" y="3476880"/>
                <a:ext cx="985680" cy="1880640"/>
              </a:xfrm>
              <a:custGeom>
                <a:avLst/>
                <a:gdLst/>
                <a:ahLst/>
                <a:rect l="l" t="t" r="r" b="b"/>
                <a:pathLst>
                  <a:path w="621" h="1185">
                    <a:moveTo>
                      <a:pt x="0" y="0"/>
                    </a:moveTo>
                    <a:lnTo>
                      <a:pt x="621" y="459"/>
                    </a:lnTo>
                    <a:lnTo>
                      <a:pt x="390" y="1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Freeform 164"/>
              <p:cNvSpPr/>
              <p:nvPr/>
            </p:nvSpPr>
            <p:spPr>
              <a:xfrm>
                <a:off x="2862720" y="2310120"/>
                <a:ext cx="1590480" cy="1166760"/>
              </a:xfrm>
              <a:custGeom>
                <a:avLst/>
                <a:gdLst/>
                <a:ahLst/>
                <a:rect l="l" t="t" r="r" b="b"/>
                <a:pathLst>
                  <a:path w="1002" h="735">
                    <a:moveTo>
                      <a:pt x="0" y="732"/>
                    </a:moveTo>
                    <a:lnTo>
                      <a:pt x="1002" y="0"/>
                    </a:lnTo>
                    <a:lnTo>
                      <a:pt x="768" y="735"/>
                    </a:lnTo>
                    <a:lnTo>
                      <a:pt x="0" y="732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70" name="Group 187"/>
          <p:cNvGrpSpPr/>
          <p:nvPr/>
        </p:nvGrpSpPr>
        <p:grpSpPr>
          <a:xfrm>
            <a:off x="2725560" y="2246400"/>
            <a:ext cx="3493800" cy="3493800"/>
            <a:chOff x="2725560" y="2246400"/>
            <a:chExt cx="3493800" cy="3493800"/>
          </a:xfrm>
        </p:grpSpPr>
        <p:grpSp>
          <p:nvGrpSpPr>
            <p:cNvPr id="3371" name="Group 165"/>
            <p:cNvGrpSpPr/>
            <p:nvPr/>
          </p:nvGrpSpPr>
          <p:grpSpPr>
            <a:xfrm>
              <a:off x="2725560" y="2246400"/>
              <a:ext cx="3493800" cy="3493800"/>
              <a:chOff x="2725560" y="2246400"/>
              <a:chExt cx="3493800" cy="3493800"/>
            </a:xfrm>
          </p:grpSpPr>
          <p:sp>
            <p:nvSpPr>
              <p:cNvPr id="3372" name="Oval 166"/>
              <p:cNvSpPr/>
              <p:nvPr/>
            </p:nvSpPr>
            <p:spPr>
              <a:xfrm>
                <a:off x="2725560" y="2246400"/>
                <a:ext cx="3493800" cy="34938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3" name="Group 167"/>
              <p:cNvGrpSpPr/>
              <p:nvPr/>
            </p:nvGrpSpPr>
            <p:grpSpPr>
              <a:xfrm>
                <a:off x="2799720" y="2275920"/>
                <a:ext cx="3328920" cy="3169440"/>
                <a:chOff x="2799720" y="2275920"/>
                <a:chExt cx="3328920" cy="3169440"/>
              </a:xfrm>
            </p:grpSpPr>
            <p:sp>
              <p:nvSpPr>
                <p:cNvPr id="3374" name="AutoShape 168"/>
                <p:cNvSpPr/>
                <p:nvPr/>
              </p:nvSpPr>
              <p:spPr>
                <a:xfrm>
                  <a:off x="2804760" y="2280960"/>
                  <a:ext cx="3323880" cy="3159000"/>
                </a:xfrm>
                <a:prstGeom prst="pentagon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AutoShape 169"/>
                <p:cNvSpPr/>
                <p:nvPr/>
              </p:nvSpPr>
              <p:spPr>
                <a:xfrm>
                  <a:off x="2804760" y="2280960"/>
                  <a:ext cx="3323880" cy="3159000"/>
                </a:xfrm>
                <a:prstGeom prst="pentagon">
                  <a:avLst/>
                </a:prstGeom>
                <a:solidFill>
                  <a:srgbClr val="edbfe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6" name="Line 170"/>
                <p:cNvSpPr/>
                <p:nvPr/>
              </p:nvSpPr>
              <p:spPr>
                <a:xfrm>
                  <a:off x="2804760" y="3485520"/>
                  <a:ext cx="332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7" name="Line 171"/>
                <p:cNvSpPr/>
                <p:nvPr/>
              </p:nvSpPr>
              <p:spPr>
                <a:xfrm>
                  <a:off x="2799720" y="3490560"/>
                  <a:ext cx="2685600" cy="19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Line 172"/>
                <p:cNvSpPr/>
                <p:nvPr/>
              </p:nvSpPr>
              <p:spPr>
                <a:xfrm flipH="1">
                  <a:off x="3448080" y="3486960"/>
                  <a:ext cx="2679120" cy="195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Line 173"/>
                <p:cNvSpPr/>
                <p:nvPr/>
              </p:nvSpPr>
              <p:spPr>
                <a:xfrm flipH="1" flipV="1">
                  <a:off x="4465080" y="2282400"/>
                  <a:ext cx="1015200" cy="315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0" name="Line 174"/>
                <p:cNvSpPr/>
                <p:nvPr/>
              </p:nvSpPr>
              <p:spPr>
                <a:xfrm flipV="1">
                  <a:off x="3456360" y="2277720"/>
                  <a:ext cx="1010160" cy="3142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Freeform 175"/>
                <p:cNvSpPr/>
                <p:nvPr/>
              </p:nvSpPr>
              <p:spPr>
                <a:xfrm>
                  <a:off x="3836160" y="3485520"/>
                  <a:ext cx="1254240" cy="1214280"/>
                </a:xfrm>
                <a:custGeom>
                  <a:avLst/>
                  <a:gdLst/>
                  <a:ahLst/>
                  <a:rect l="l" t="t" r="r" b="b"/>
                  <a:pathLst>
                    <a:path w="762" h="738">
                      <a:moveTo>
                        <a:pt x="141" y="0"/>
                      </a:moveTo>
                      <a:lnTo>
                        <a:pt x="615" y="0"/>
                      </a:lnTo>
                      <a:lnTo>
                        <a:pt x="762" y="456"/>
                      </a:lnTo>
                      <a:lnTo>
                        <a:pt x="384" y="738"/>
                      </a:lnTo>
                      <a:lnTo>
                        <a:pt x="0" y="459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2" name="Freeform 176"/>
                <p:cNvSpPr/>
                <p:nvPr/>
              </p:nvSpPr>
              <p:spPr>
                <a:xfrm>
                  <a:off x="4078440" y="2280960"/>
                  <a:ext cx="776520" cy="1200960"/>
                </a:xfrm>
                <a:custGeom>
                  <a:avLst/>
                  <a:gdLst/>
                  <a:ahLst/>
                  <a:rect l="l" t="t" r="r" b="b"/>
                  <a:pathLst>
                    <a:path w="472" h="730">
                      <a:moveTo>
                        <a:pt x="0" y="730"/>
                      </a:moveTo>
                      <a:lnTo>
                        <a:pt x="232" y="0"/>
                      </a:lnTo>
                      <a:lnTo>
                        <a:pt x="472" y="728"/>
                      </a:lnTo>
                      <a:lnTo>
                        <a:pt x="0" y="7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3" name="Freeform 177"/>
                <p:cNvSpPr/>
                <p:nvPr/>
              </p:nvSpPr>
              <p:spPr>
                <a:xfrm>
                  <a:off x="4854960" y="3479040"/>
                  <a:ext cx="1273680" cy="753480"/>
                </a:xfrm>
                <a:custGeom>
                  <a:avLst/>
                  <a:gdLst/>
                  <a:ahLst/>
                  <a:rect l="l" t="t" r="r" b="b"/>
                  <a:pathLst>
                    <a:path w="774" h="458">
                      <a:moveTo>
                        <a:pt x="0" y="0"/>
                      </a:moveTo>
                      <a:lnTo>
                        <a:pt x="774" y="0"/>
                      </a:lnTo>
                      <a:lnTo>
                        <a:pt x="148" y="4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Freeform 178"/>
                <p:cNvSpPr/>
                <p:nvPr/>
              </p:nvSpPr>
              <p:spPr>
                <a:xfrm>
                  <a:off x="4473360" y="4242240"/>
                  <a:ext cx="1006920" cy="1194840"/>
                </a:xfrm>
                <a:custGeom>
                  <a:avLst/>
                  <a:gdLst/>
                  <a:ahLst/>
                  <a:rect l="l" t="t" r="r" b="b"/>
                  <a:pathLst>
                    <a:path w="612" h="726">
                      <a:moveTo>
                        <a:pt x="612" y="726"/>
                      </a:moveTo>
                      <a:lnTo>
                        <a:pt x="0" y="278"/>
                      </a:lnTo>
                      <a:lnTo>
                        <a:pt x="382" y="0"/>
                      </a:lnTo>
                      <a:lnTo>
                        <a:pt x="612" y="7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Freeform 179"/>
                <p:cNvSpPr/>
                <p:nvPr/>
              </p:nvSpPr>
              <p:spPr>
                <a:xfrm>
                  <a:off x="3449520" y="4239000"/>
                  <a:ext cx="1016640" cy="1198080"/>
                </a:xfrm>
                <a:custGeom>
                  <a:avLst/>
                  <a:gdLst/>
                  <a:ahLst/>
                  <a:rect l="l" t="t" r="r" b="b"/>
                  <a:pathLst>
                    <a:path w="618" h="728">
                      <a:moveTo>
                        <a:pt x="234" y="0"/>
                      </a:moveTo>
                      <a:lnTo>
                        <a:pt x="0" y="728"/>
                      </a:lnTo>
                      <a:lnTo>
                        <a:pt x="618" y="280"/>
                      </a:lnTo>
                      <a:lnTo>
                        <a:pt x="23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6" name="Freeform 180"/>
                <p:cNvSpPr/>
                <p:nvPr/>
              </p:nvSpPr>
              <p:spPr>
                <a:xfrm>
                  <a:off x="2804760" y="3482280"/>
                  <a:ext cx="1266840" cy="759960"/>
                </a:xfrm>
                <a:custGeom>
                  <a:avLst/>
                  <a:gdLst/>
                  <a:ahLst/>
                  <a:rect l="l" t="t" r="r" b="b"/>
                  <a:pathLst>
                    <a:path w="770" h="462">
                      <a:moveTo>
                        <a:pt x="770" y="0"/>
                      </a:moveTo>
                      <a:lnTo>
                        <a:pt x="0" y="2"/>
                      </a:lnTo>
                      <a:lnTo>
                        <a:pt x="626" y="462"/>
                      </a:lnTo>
                      <a:lnTo>
                        <a:pt x="7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7" name="Freeform 181"/>
                <p:cNvSpPr/>
                <p:nvPr/>
              </p:nvSpPr>
              <p:spPr>
                <a:xfrm>
                  <a:off x="4468320" y="2275920"/>
                  <a:ext cx="1653840" cy="1199520"/>
                </a:xfrm>
                <a:custGeom>
                  <a:avLst/>
                  <a:gdLst/>
                  <a:ahLst/>
                  <a:rect l="l" t="t" r="r" b="b"/>
                  <a:pathLst>
                    <a:path w="1005" h="729">
                      <a:moveTo>
                        <a:pt x="1005" y="729"/>
                      </a:moveTo>
                      <a:lnTo>
                        <a:pt x="240" y="729"/>
                      </a:lnTo>
                      <a:lnTo>
                        <a:pt x="0" y="0"/>
                      </a:lnTo>
                      <a:lnTo>
                        <a:pt x="1005" y="7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8" name="Freeform 182"/>
                <p:cNvSpPr/>
                <p:nvPr/>
              </p:nvSpPr>
              <p:spPr>
                <a:xfrm>
                  <a:off x="5100120" y="3480480"/>
                  <a:ext cx="1026720" cy="1954800"/>
                </a:xfrm>
                <a:custGeom>
                  <a:avLst/>
                  <a:gdLst/>
                  <a:ahLst/>
                  <a:rect l="l" t="t" r="r" b="b"/>
                  <a:pathLst>
                    <a:path w="624" h="1188">
                      <a:moveTo>
                        <a:pt x="624" y="0"/>
                      </a:moveTo>
                      <a:lnTo>
                        <a:pt x="228" y="1188"/>
                      </a:lnTo>
                      <a:lnTo>
                        <a:pt x="0" y="462"/>
                      </a:lnTo>
                      <a:lnTo>
                        <a:pt x="6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9" name="Freeform 183"/>
                <p:cNvSpPr/>
                <p:nvPr/>
              </p:nvSpPr>
              <p:spPr>
                <a:xfrm>
                  <a:off x="3451680" y="4704840"/>
                  <a:ext cx="2028960" cy="740520"/>
                </a:xfrm>
                <a:custGeom>
                  <a:avLst/>
                  <a:gdLst/>
                  <a:ahLst/>
                  <a:rect l="l" t="t" r="r" b="b"/>
                  <a:pathLst>
                    <a:path w="1233" h="450">
                      <a:moveTo>
                        <a:pt x="0" y="450"/>
                      </a:moveTo>
                      <a:lnTo>
                        <a:pt x="1233" y="450"/>
                      </a:lnTo>
                      <a:lnTo>
                        <a:pt x="621" y="0"/>
                      </a:lnTo>
                      <a:lnTo>
                        <a:pt x="0" y="4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0" name="Freeform 184"/>
                <p:cNvSpPr/>
                <p:nvPr/>
              </p:nvSpPr>
              <p:spPr>
                <a:xfrm>
                  <a:off x="2809440" y="3485520"/>
                  <a:ext cx="1021680" cy="1949760"/>
                </a:xfrm>
                <a:custGeom>
                  <a:avLst/>
                  <a:gdLst/>
                  <a:ahLst/>
                  <a:rect l="l" t="t" r="r" b="b"/>
                  <a:pathLst>
                    <a:path w="621" h="1185">
                      <a:moveTo>
                        <a:pt x="0" y="0"/>
                      </a:moveTo>
                      <a:lnTo>
                        <a:pt x="621" y="459"/>
                      </a:lnTo>
                      <a:lnTo>
                        <a:pt x="390" y="118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1" name="Freeform 185"/>
                <p:cNvSpPr/>
                <p:nvPr/>
              </p:nvSpPr>
              <p:spPr>
                <a:xfrm>
                  <a:off x="2809440" y="2275920"/>
                  <a:ext cx="1648440" cy="1209600"/>
                </a:xfrm>
                <a:custGeom>
                  <a:avLst/>
                  <a:gdLst/>
                  <a:ahLst/>
                  <a:rect l="l" t="t" r="r" b="b"/>
                  <a:pathLst>
                    <a:path w="1002" h="735">
                      <a:moveTo>
                        <a:pt x="0" y="732"/>
                      </a:moveTo>
                      <a:lnTo>
                        <a:pt x="1002" y="0"/>
                      </a:lnTo>
                      <a:lnTo>
                        <a:pt x="768" y="735"/>
                      </a:lnTo>
                      <a:lnTo>
                        <a:pt x="0" y="7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2" name="Oval 186"/>
            <p:cNvSpPr/>
            <p:nvPr/>
          </p:nvSpPr>
          <p:spPr>
            <a:xfrm>
              <a:off x="4376880" y="2614680"/>
              <a:ext cx="158760" cy="15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3" name="Text Box 188"/>
          <p:cNvSpPr/>
          <p:nvPr/>
        </p:nvSpPr>
        <p:spPr>
          <a:xfrm>
            <a:off x="544680" y="1378080"/>
            <a:ext cx="72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order of rotational symmetry of the shape bel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Text Box 189"/>
          <p:cNvSpPr/>
          <p:nvPr/>
        </p:nvSpPr>
        <p:spPr>
          <a:xfrm>
            <a:off x="3944880" y="556740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Text Box 190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">
                                      <p:cBhvr>
                                        <p:cTn id="66" dur="2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3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73" dur="2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80" dur="2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87" dur="2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94" dur="2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6" name="Group 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397" name="Group 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398" name="AutoShape 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AutoShape 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AutoShape 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AutoShape 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AutoShape 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3" name="Group 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404" name="AutoShape 1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AutoShape 1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AutoShape 1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AutoShape 1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AutoShape 1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9" name="Group 1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410" name="AutoShape 1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AutoShape 1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AutoShape 1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AutoShape 1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AutoShape 2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5" name="Group 2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416" name="AutoShape 2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AutoShape 2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AutoShape 2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AutoShape 2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AutoShape 2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1" name="Group 2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422" name="AutoShape 2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AutoShape 2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AutoShape 3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AutoShape 3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AutoShape 3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7" name="AutoShape 3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AutoShape 3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AutoShape 3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AutoShape 3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AutoShape 3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AutoShape 3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AutoShape 3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AutoShape 4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5" name="Group 41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436" name="Group 42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437" name="AutoShape 43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AutoShape 44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AutoShape 45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AutoShape 46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AutoShape 47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2" name="Group 48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443" name="AutoShape 49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AutoShape 50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AutoShape 51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AutoShape 52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AutoShape 53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8" name="Group 54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449" name="AutoShape 55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AutoShape 56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AutoShape 57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AutoShape 58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AutoShape 59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4" name="Group 60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455" name="AutoShape 61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AutoShape 62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AutoShape 63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AutoShape 64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AutoShape 65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0" name="Group 66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461" name="AutoShape 67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AutoShape 68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AutoShape 69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AutoShape 70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AutoShape 71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6" name="AutoShape 72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AutoShape 73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AutoShape 74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AutoShape 75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AutoShape 76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AutoShape 77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AutoShape 78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AutoShape 79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4" name="Group 80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475" name="Group 81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476" name="AutoShape 82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AutoShape 83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AutoShape 84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AutoShape 85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0" name="Group 86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481" name="AutoShape 87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AutoShape 88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AutoShape 89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AutoShape 90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AutoShape 91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6" name="Group 92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487" name="AutoShape 93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AutoShape 94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AutoShape 95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AutoShape 96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AutoShape 97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2" name="Group 98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493" name="AutoShape 99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4" name="AutoShape 100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5" name="AutoShape 101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6" name="AutoShape 102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7" name="AutoShape 103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98" name="AutoShape 104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AutoShape 105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AutoShape 106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AutoShape 107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2" name="Group 108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503" name="Group 109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504" name="AutoShape 110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AutoShape 111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AutoShape 112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AutoShape 113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8" name="Group 114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509" name="AutoShape 115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0" name="AutoShape 116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1" name="AutoShape 117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2" name="AutoShape 118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3" name="AutoShape 119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4" name="Group 120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515" name="AutoShape 121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6" name="AutoShape 122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7" name="AutoShape 123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8" name="AutoShape 124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AutoShape 125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0" name="Group 126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521" name="AutoShape 127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AutoShape 128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3" name="AutoShape 129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AutoShape 130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5" name="AutoShape 131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26" name="AutoShape 132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AutoShape 133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AutoShape 134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AutoShape 135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0" name="Text Box 141"/>
          <p:cNvSpPr/>
          <p:nvPr/>
        </p:nvSpPr>
        <p:spPr>
          <a:xfrm>
            <a:off x="544680" y="1378080"/>
            <a:ext cx="72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order of rotational symmetry of the shape bel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Text Box 143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2" name="Group 144"/>
          <p:cNvGrpSpPr/>
          <p:nvPr/>
        </p:nvGrpSpPr>
        <p:grpSpPr>
          <a:xfrm>
            <a:off x="3097080" y="2530440"/>
            <a:ext cx="2678040" cy="2677680"/>
            <a:chOff x="3097080" y="2530440"/>
            <a:chExt cx="2678040" cy="2677680"/>
          </a:xfrm>
        </p:grpSpPr>
        <p:sp>
          <p:nvSpPr>
            <p:cNvPr id="3533" name="Freeform 145"/>
            <p:cNvSpPr/>
            <p:nvPr/>
          </p:nvSpPr>
          <p:spPr>
            <a:xfrm>
              <a:off x="3332520" y="2569320"/>
              <a:ext cx="2246400" cy="2607480"/>
            </a:xfrm>
            <a:custGeom>
              <a:avLst/>
              <a:gdLst/>
              <a:ahLst/>
              <a:rect l="l" t="t" r="r" b="b"/>
              <a:pathLst>
                <a:path w="1144" h="1328">
                  <a:moveTo>
                    <a:pt x="4" y="992"/>
                  </a:moveTo>
                  <a:lnTo>
                    <a:pt x="276" y="664"/>
                  </a:lnTo>
                  <a:lnTo>
                    <a:pt x="0" y="328"/>
                  </a:lnTo>
                  <a:lnTo>
                    <a:pt x="424" y="412"/>
                  </a:lnTo>
                  <a:lnTo>
                    <a:pt x="568" y="0"/>
                  </a:lnTo>
                  <a:lnTo>
                    <a:pt x="716" y="408"/>
                  </a:lnTo>
                  <a:lnTo>
                    <a:pt x="1144" y="332"/>
                  </a:lnTo>
                  <a:lnTo>
                    <a:pt x="860" y="664"/>
                  </a:lnTo>
                  <a:lnTo>
                    <a:pt x="1140" y="992"/>
                  </a:lnTo>
                  <a:lnTo>
                    <a:pt x="720" y="916"/>
                  </a:lnTo>
                  <a:lnTo>
                    <a:pt x="572" y="1328"/>
                  </a:lnTo>
                  <a:lnTo>
                    <a:pt x="424" y="912"/>
                  </a:lnTo>
                  <a:lnTo>
                    <a:pt x="4" y="992"/>
                  </a:lnTo>
                  <a:close/>
                </a:path>
              </a:pathLst>
            </a:custGeom>
            <a:solidFill>
              <a:srgbClr val="f9738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Oval 146"/>
            <p:cNvSpPr/>
            <p:nvPr/>
          </p:nvSpPr>
          <p:spPr>
            <a:xfrm>
              <a:off x="3097080" y="2530440"/>
              <a:ext cx="2678040" cy="26776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5" name="Group 148"/>
          <p:cNvGrpSpPr/>
          <p:nvPr/>
        </p:nvGrpSpPr>
        <p:grpSpPr>
          <a:xfrm>
            <a:off x="3086280" y="2502000"/>
            <a:ext cx="2734560" cy="2734920"/>
            <a:chOff x="3086280" y="2502000"/>
            <a:chExt cx="2734560" cy="2734920"/>
          </a:xfrm>
        </p:grpSpPr>
        <p:sp>
          <p:nvSpPr>
            <p:cNvPr id="3536" name="Freeform 149"/>
            <p:cNvSpPr/>
            <p:nvPr/>
          </p:nvSpPr>
          <p:spPr>
            <a:xfrm>
              <a:off x="3326760" y="2541960"/>
              <a:ext cx="2293560" cy="2663280"/>
            </a:xfrm>
            <a:custGeom>
              <a:avLst/>
              <a:gdLst/>
              <a:ahLst/>
              <a:rect l="l" t="t" r="r" b="b"/>
              <a:pathLst>
                <a:path w="1144" h="1328">
                  <a:moveTo>
                    <a:pt x="4" y="992"/>
                  </a:moveTo>
                  <a:lnTo>
                    <a:pt x="276" y="664"/>
                  </a:lnTo>
                  <a:lnTo>
                    <a:pt x="0" y="328"/>
                  </a:lnTo>
                  <a:lnTo>
                    <a:pt x="424" y="412"/>
                  </a:lnTo>
                  <a:lnTo>
                    <a:pt x="568" y="0"/>
                  </a:lnTo>
                  <a:lnTo>
                    <a:pt x="716" y="408"/>
                  </a:lnTo>
                  <a:lnTo>
                    <a:pt x="1144" y="332"/>
                  </a:lnTo>
                  <a:lnTo>
                    <a:pt x="860" y="664"/>
                  </a:lnTo>
                  <a:lnTo>
                    <a:pt x="1140" y="992"/>
                  </a:lnTo>
                  <a:lnTo>
                    <a:pt x="720" y="916"/>
                  </a:lnTo>
                  <a:lnTo>
                    <a:pt x="572" y="1328"/>
                  </a:lnTo>
                  <a:lnTo>
                    <a:pt x="424" y="912"/>
                  </a:lnTo>
                  <a:lnTo>
                    <a:pt x="4" y="9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Oval 150"/>
            <p:cNvSpPr/>
            <p:nvPr/>
          </p:nvSpPr>
          <p:spPr>
            <a:xfrm>
              <a:off x="3086280" y="2502000"/>
              <a:ext cx="2734560" cy="273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8" name="Oval 151"/>
          <p:cNvSpPr/>
          <p:nvPr/>
        </p:nvSpPr>
        <p:spPr>
          <a:xfrm>
            <a:off x="4365720" y="2844720"/>
            <a:ext cx="190440" cy="190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9" name="Group 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540" name="Group 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541" name="AutoShape 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AutoShape 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AutoShape 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AutoShape 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AutoShape 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6" name="Group 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547" name="AutoShape 1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AutoShape 1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AutoShape 1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AutoShape 1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AutoShape 1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2" name="Group 1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553" name="AutoShape 1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AutoShape 1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AutoShape 1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AutoShape 1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AutoShape 2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8" name="Group 2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559" name="AutoShape 2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AutoShape 2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AutoShape 2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AutoShape 2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AutoShape 2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4" name="Group 2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565" name="AutoShape 2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AutoShape 2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AutoShape 3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AutoShape 3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AutoShape 3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0" name="AutoShape 3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AutoShape 3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AutoShape 3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AutoShape 3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AutoShape 3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AutoShape 3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AutoShape 3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AutoShape 4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8" name="Group 41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579" name="Group 42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580" name="AutoShape 43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AutoShape 44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AutoShape 45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AutoShape 46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AutoShape 47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5" name="Group 48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586" name="AutoShape 49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AutoShape 50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AutoShape 51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AutoShape 52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AutoShape 53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1" name="Group 54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592" name="AutoShape 55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AutoShape 56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AutoShape 57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AutoShape 58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AutoShape 59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7" name="Group 60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598" name="AutoShape 61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AutoShape 62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AutoShape 63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AutoShape 64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AutoShape 65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3" name="Group 66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604" name="AutoShape 67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AutoShape 68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AutoShape 69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AutoShape 70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AutoShape 71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9" name="AutoShape 72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AutoShape 73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AutoShape 74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AutoShape 75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AutoShape 76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AutoShape 77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AutoShape 78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AutoShape 79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7" name="Group 80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618" name="Group 81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619" name="AutoShape 82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AutoShape 83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AutoShape 84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AutoShape 85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3" name="Group 86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624" name="AutoShape 87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5" name="AutoShape 88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6" name="AutoShape 89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7" name="AutoShape 90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8" name="AutoShape 91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9" name="Group 92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630" name="AutoShape 93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1" name="AutoShape 94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2" name="AutoShape 95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3" name="AutoShape 96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4" name="AutoShape 97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5" name="Group 98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636" name="AutoShape 99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7" name="AutoShape 100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8" name="AutoShape 101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9" name="AutoShape 102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0" name="AutoShape 103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1" name="AutoShape 104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AutoShape 105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AutoShape 106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AutoShape 107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5" name="Group 108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646" name="Group 109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647" name="AutoShape 110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AutoShape 111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AutoShape 112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AutoShape 113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1" name="Group 114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652" name="AutoShape 115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3" name="AutoShape 116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4" name="AutoShape 117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5" name="AutoShape 118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6" name="AutoShape 119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7" name="Group 120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658" name="AutoShape 121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9" name="AutoShape 122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0" name="AutoShape 123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1" name="AutoShape 124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2" name="AutoShape 125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3" name="Group 126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664" name="AutoShape 127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5" name="AutoShape 128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6" name="AutoShape 129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7" name="AutoShape 130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8" name="AutoShape 131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69" name="AutoShape 132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AutoShape 133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AutoShape 134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AutoShape 135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3" name="Text Box 136"/>
          <p:cNvSpPr/>
          <p:nvPr/>
        </p:nvSpPr>
        <p:spPr>
          <a:xfrm>
            <a:off x="5778360" y="293544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Text Box 137"/>
          <p:cNvSpPr/>
          <p:nvPr/>
        </p:nvSpPr>
        <p:spPr>
          <a:xfrm>
            <a:off x="5678640" y="4532400"/>
            <a:ext cx="5299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Text Box 138"/>
          <p:cNvSpPr/>
          <p:nvPr/>
        </p:nvSpPr>
        <p:spPr>
          <a:xfrm>
            <a:off x="4227480" y="530064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Text Box 139"/>
          <p:cNvSpPr/>
          <p:nvPr/>
        </p:nvSpPr>
        <p:spPr>
          <a:xfrm>
            <a:off x="2664000" y="4594320"/>
            <a:ext cx="5299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Text Box 140"/>
          <p:cNvSpPr/>
          <p:nvPr/>
        </p:nvSpPr>
        <p:spPr>
          <a:xfrm>
            <a:off x="2575080" y="2838600"/>
            <a:ext cx="5299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Text Box 185"/>
          <p:cNvSpPr/>
          <p:nvPr/>
        </p:nvSpPr>
        <p:spPr>
          <a:xfrm>
            <a:off x="544680" y="1378080"/>
            <a:ext cx="72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order of rotational symmetry of the shape bel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Text Box 186"/>
          <p:cNvSpPr/>
          <p:nvPr/>
        </p:nvSpPr>
        <p:spPr>
          <a:xfrm>
            <a:off x="3983040" y="575784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Text Box 187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1" name="Group 188"/>
          <p:cNvGrpSpPr/>
          <p:nvPr/>
        </p:nvGrpSpPr>
        <p:grpSpPr>
          <a:xfrm>
            <a:off x="3097080" y="2530440"/>
            <a:ext cx="2678040" cy="2677680"/>
            <a:chOff x="3097080" y="2530440"/>
            <a:chExt cx="2678040" cy="2677680"/>
          </a:xfrm>
        </p:grpSpPr>
        <p:sp>
          <p:nvSpPr>
            <p:cNvPr id="3682" name="Freeform 189"/>
            <p:cNvSpPr/>
            <p:nvPr/>
          </p:nvSpPr>
          <p:spPr>
            <a:xfrm>
              <a:off x="3332520" y="2569320"/>
              <a:ext cx="2246400" cy="2607480"/>
            </a:xfrm>
            <a:custGeom>
              <a:avLst/>
              <a:gdLst/>
              <a:ahLst/>
              <a:rect l="l" t="t" r="r" b="b"/>
              <a:pathLst>
                <a:path w="1144" h="1328">
                  <a:moveTo>
                    <a:pt x="4" y="992"/>
                  </a:moveTo>
                  <a:lnTo>
                    <a:pt x="276" y="664"/>
                  </a:lnTo>
                  <a:lnTo>
                    <a:pt x="0" y="328"/>
                  </a:lnTo>
                  <a:lnTo>
                    <a:pt x="424" y="412"/>
                  </a:lnTo>
                  <a:lnTo>
                    <a:pt x="568" y="0"/>
                  </a:lnTo>
                  <a:lnTo>
                    <a:pt x="716" y="408"/>
                  </a:lnTo>
                  <a:lnTo>
                    <a:pt x="1144" y="332"/>
                  </a:lnTo>
                  <a:lnTo>
                    <a:pt x="860" y="664"/>
                  </a:lnTo>
                  <a:lnTo>
                    <a:pt x="1140" y="992"/>
                  </a:lnTo>
                  <a:lnTo>
                    <a:pt x="720" y="916"/>
                  </a:lnTo>
                  <a:lnTo>
                    <a:pt x="572" y="1328"/>
                  </a:lnTo>
                  <a:lnTo>
                    <a:pt x="424" y="912"/>
                  </a:lnTo>
                  <a:lnTo>
                    <a:pt x="4" y="992"/>
                  </a:lnTo>
                  <a:close/>
                </a:path>
              </a:pathLst>
            </a:custGeom>
            <a:solidFill>
              <a:srgbClr val="f9738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Oval 190"/>
            <p:cNvSpPr/>
            <p:nvPr/>
          </p:nvSpPr>
          <p:spPr>
            <a:xfrm>
              <a:off x="3097080" y="2530440"/>
              <a:ext cx="2678040" cy="26776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4" name="Group 195"/>
          <p:cNvGrpSpPr/>
          <p:nvPr/>
        </p:nvGrpSpPr>
        <p:grpSpPr>
          <a:xfrm>
            <a:off x="3086280" y="2502000"/>
            <a:ext cx="2734560" cy="2734920"/>
            <a:chOff x="3086280" y="2502000"/>
            <a:chExt cx="2734560" cy="2734920"/>
          </a:xfrm>
        </p:grpSpPr>
        <p:grpSp>
          <p:nvGrpSpPr>
            <p:cNvPr id="3685" name="Group 191"/>
            <p:cNvGrpSpPr/>
            <p:nvPr/>
          </p:nvGrpSpPr>
          <p:grpSpPr>
            <a:xfrm>
              <a:off x="3086280" y="2502000"/>
              <a:ext cx="2734560" cy="2734920"/>
              <a:chOff x="3086280" y="2502000"/>
              <a:chExt cx="2734560" cy="2734920"/>
            </a:xfrm>
          </p:grpSpPr>
          <p:sp>
            <p:nvSpPr>
              <p:cNvPr id="3686" name="Freeform 192"/>
              <p:cNvSpPr/>
              <p:nvPr/>
            </p:nvSpPr>
            <p:spPr>
              <a:xfrm>
                <a:off x="3326760" y="2541960"/>
                <a:ext cx="2293560" cy="2663280"/>
              </a:xfrm>
              <a:custGeom>
                <a:avLst/>
                <a:gdLst/>
                <a:ahLst/>
                <a:rect l="l" t="t" r="r" b="b"/>
                <a:pathLst>
                  <a:path w="1144" h="1328">
                    <a:moveTo>
                      <a:pt x="4" y="992"/>
                    </a:moveTo>
                    <a:lnTo>
                      <a:pt x="276" y="664"/>
                    </a:lnTo>
                    <a:lnTo>
                      <a:pt x="0" y="328"/>
                    </a:lnTo>
                    <a:lnTo>
                      <a:pt x="424" y="412"/>
                    </a:lnTo>
                    <a:lnTo>
                      <a:pt x="568" y="0"/>
                    </a:lnTo>
                    <a:lnTo>
                      <a:pt x="716" y="408"/>
                    </a:lnTo>
                    <a:lnTo>
                      <a:pt x="1144" y="332"/>
                    </a:lnTo>
                    <a:lnTo>
                      <a:pt x="860" y="664"/>
                    </a:lnTo>
                    <a:lnTo>
                      <a:pt x="1140" y="992"/>
                    </a:lnTo>
                    <a:lnTo>
                      <a:pt x="720" y="916"/>
                    </a:lnTo>
                    <a:lnTo>
                      <a:pt x="572" y="1328"/>
                    </a:lnTo>
                    <a:lnTo>
                      <a:pt x="424" y="912"/>
                    </a:lnTo>
                    <a:lnTo>
                      <a:pt x="4" y="992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Oval 193"/>
              <p:cNvSpPr/>
              <p:nvPr/>
            </p:nvSpPr>
            <p:spPr>
              <a:xfrm>
                <a:off x="3086280" y="2502000"/>
                <a:ext cx="2734560" cy="27349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8" name="Oval 194"/>
            <p:cNvSpPr/>
            <p:nvPr/>
          </p:nvSpPr>
          <p:spPr>
            <a:xfrm>
              <a:off x="4365720" y="2844720"/>
              <a:ext cx="190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9" name="Text Box 196"/>
          <p:cNvSpPr/>
          <p:nvPr/>
        </p:nvSpPr>
        <p:spPr>
          <a:xfrm>
            <a:off x="4181400" y="201600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115" dur="2000" fill="hold"/>
                                        <p:tgtEl>
                                          <p:spTgt spid="3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122" dur="2000" fill="hold"/>
                                        <p:tgtEl>
                                          <p:spTgt spid="3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129" dur="2000" fill="hold"/>
                                        <p:tgtEl>
                                          <p:spTgt spid="3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136" dur="2000" fill="hold"/>
                                        <p:tgtEl>
                                          <p:spTgt spid="3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143" dur="2000" fill="hold"/>
                                        <p:tgtEl>
                                          <p:spTgt spid="3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150" dur="2000" fill="hold"/>
                                        <p:tgtEl>
                                          <p:spTgt spid="3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AutoShape 2"/>
          <p:cNvSpPr/>
          <p:nvPr/>
        </p:nvSpPr>
        <p:spPr>
          <a:xfrm>
            <a:off x="3070080" y="2206800"/>
            <a:ext cx="3076560" cy="26604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Text Box 6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Equilateral 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2" name="Group 7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693" name="Group 8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694" name="AutoShape 9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AutoShape 10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AutoShape 11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AutoShape 12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AutoShape 13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9" name="Group 14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700" name="AutoShape 15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AutoShape 16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AutoShape 17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AutoShape 18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AutoShape 19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5" name="Group 20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706" name="AutoShape 21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AutoShape 22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AutoShape 23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AutoShape 24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AutoShape 25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1" name="Group 26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712" name="AutoShape 27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AutoShape 28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AutoShape 29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AutoShape 30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AutoShape 31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7" name="Group 32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718" name="AutoShape 33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AutoShape 34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AutoShape 35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AutoShape 36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AutoShape 37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3" name="AutoShape 38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AutoShape 39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AutoShape 40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AutoShape 41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AutoShape 42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AutoShape 43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AutoShape 44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AutoShape 45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1" name="Group 46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732" name="Group 47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733" name="AutoShape 48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AutoShape 49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AutoShape 50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AutoShape 51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AutoShape 52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8" name="Group 53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739" name="AutoShape 54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AutoShape 55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AutoShape 56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AutoShape 57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AutoShape 58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4" name="Group 59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745" name="AutoShape 60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AutoShape 61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AutoShape 62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AutoShape 63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AutoShape 64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0" name="Group 65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751" name="AutoShape 66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AutoShape 67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AutoShape 68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AutoShape 69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AutoShape 70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6" name="Group 71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757" name="AutoShape 72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AutoShape 73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AutoShape 74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AutoShape 75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AutoShape 76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2" name="AutoShape 77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AutoShape 78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AutoShape 79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AutoShape 80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AutoShape 81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AutoShape 82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AutoShape 83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AutoShape 84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0" name="Group 85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771" name="Group 86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772" name="AutoShape 87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AutoShape 88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AutoShape 89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AutoShape 90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76" name="Group 91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777" name="AutoShape 92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8" name="AutoShape 93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9" name="AutoShape 94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0" name="AutoShape 95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1" name="AutoShape 96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2" name="Group 97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783" name="AutoShape 98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4" name="AutoShape 99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5" name="AutoShape 100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6" name="AutoShape 101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7" name="AutoShape 102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8" name="Group 103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789" name="AutoShape 104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0" name="AutoShape 105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1" name="AutoShape 106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2" name="AutoShape 107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3" name="AutoShape 108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94" name="AutoShape 109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AutoShape 110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AutoShape 111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AutoShape 112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8" name="Group 113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799" name="Group 114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800" name="AutoShape 115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AutoShape 116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AutoShape 117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AutoShape 118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4" name="Group 119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805" name="AutoShape 120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6" name="AutoShape 121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7" name="AutoShape 122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8" name="AutoShape 123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9" name="AutoShape 124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0" name="Group 125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811" name="AutoShape 126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2" name="AutoShape 127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3" name="AutoShape 128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4" name="AutoShape 129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5" name="AutoShape 130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6" name="Group 131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817" name="AutoShape 132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8" name="AutoShape 133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9" name="AutoShape 134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0" name="AutoShape 135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1" name="AutoShape 136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22" name="AutoShape 137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AutoShape 138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AutoShape 139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AutoShape 140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6" name="Text Box 141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quilateral triangle has rotational symmetry of orde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Oval 5"/>
          <p:cNvSpPr/>
          <p:nvPr/>
        </p:nvSpPr>
        <p:spPr>
          <a:xfrm>
            <a:off x="2830680" y="2206800"/>
            <a:ext cx="3551040" cy="3551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AutoShape 4"/>
          <p:cNvSpPr/>
          <p:nvPr/>
        </p:nvSpPr>
        <p:spPr>
          <a:xfrm>
            <a:off x="3070080" y="2206800"/>
            <a:ext cx="3076560" cy="2660400"/>
          </a:xfrm>
          <a:prstGeom prst="triangle">
            <a:avLst>
              <a:gd name="adj" fmla="val 50000"/>
            </a:avLst>
          </a:prstGeom>
          <a:solidFill>
            <a:srgbClr val="6bc9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PlaceHolder 1"/>
          <p:cNvSpPr>
            <a:spLocks noGrp="1"/>
          </p:cNvSpPr>
          <p:nvPr>
            <p:ph type="title"/>
          </p:nvPr>
        </p:nvSpPr>
        <p:spPr>
          <a:xfrm>
            <a:off x="343080" y="5284440"/>
            <a:ext cx="5200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gular Polyg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AutoShape 2"/>
          <p:cNvSpPr/>
          <p:nvPr/>
        </p:nvSpPr>
        <p:spPr>
          <a:xfrm>
            <a:off x="3070080" y="2206800"/>
            <a:ext cx="3076560" cy="26604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Equilateral 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2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833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834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9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840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5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846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1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852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7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858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3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1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872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873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8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879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4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885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0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891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6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897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2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0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911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912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16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917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8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9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0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2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923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5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6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7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8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929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0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1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2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3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34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8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939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940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44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945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6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7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8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9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0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951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2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3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4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5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6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957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8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9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0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1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62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6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quilateral triangle has rotational symmetry of orde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7" name="Group 139"/>
          <p:cNvGrpSpPr/>
          <p:nvPr/>
        </p:nvGrpSpPr>
        <p:grpSpPr>
          <a:xfrm>
            <a:off x="2830680" y="2206800"/>
            <a:ext cx="3551040" cy="3551040"/>
            <a:chOff x="2830680" y="2206800"/>
            <a:chExt cx="3551040" cy="3551040"/>
          </a:xfrm>
        </p:grpSpPr>
        <p:sp>
          <p:nvSpPr>
            <p:cNvPr id="3968" name="Oval 140"/>
            <p:cNvSpPr/>
            <p:nvPr/>
          </p:nvSpPr>
          <p:spPr>
            <a:xfrm>
              <a:off x="2830680" y="2206800"/>
              <a:ext cx="3551040" cy="3551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AutoShape 141"/>
            <p:cNvSpPr/>
            <p:nvPr/>
          </p:nvSpPr>
          <p:spPr>
            <a:xfrm>
              <a:off x="3070080" y="2206800"/>
              <a:ext cx="3076560" cy="2660400"/>
            </a:xfrm>
            <a:prstGeom prst="triangle">
              <a:avLst>
                <a:gd name="adj" fmla="val 50000"/>
              </a:avLst>
            </a:prstGeom>
            <a:solidFill>
              <a:srgbClr val="6bc9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Oval 142"/>
            <p:cNvSpPr/>
            <p:nvPr/>
          </p:nvSpPr>
          <p:spPr>
            <a:xfrm>
              <a:off x="4510080" y="2387520"/>
              <a:ext cx="193680" cy="193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1" name="AutoShape 2"/>
          <p:cNvSpPr/>
          <p:nvPr/>
        </p:nvSpPr>
        <p:spPr>
          <a:xfrm>
            <a:off x="3070080" y="2206800"/>
            <a:ext cx="3076560" cy="26604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Equilateral 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3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974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975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0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981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6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987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2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993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8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999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4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2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013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014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9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020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5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026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1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4032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7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4038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3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1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4052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4053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57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4058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9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0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1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2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3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4064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5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6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7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8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9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4070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1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2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3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4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75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9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4080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4081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5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4086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7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8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9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0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1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4092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3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4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5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6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7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4098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9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0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1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2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03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7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quilateral triangle has rotational symmetry of orde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8" name="Group 139"/>
          <p:cNvGrpSpPr/>
          <p:nvPr/>
        </p:nvGrpSpPr>
        <p:grpSpPr>
          <a:xfrm>
            <a:off x="2830680" y="2206800"/>
            <a:ext cx="3551040" cy="3551040"/>
            <a:chOff x="2830680" y="2206800"/>
            <a:chExt cx="3551040" cy="3551040"/>
          </a:xfrm>
        </p:grpSpPr>
        <p:sp>
          <p:nvSpPr>
            <p:cNvPr id="4109" name="Oval 140"/>
            <p:cNvSpPr/>
            <p:nvPr/>
          </p:nvSpPr>
          <p:spPr>
            <a:xfrm>
              <a:off x="2830680" y="2206800"/>
              <a:ext cx="3551040" cy="3551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AutoShape 141"/>
            <p:cNvSpPr/>
            <p:nvPr/>
          </p:nvSpPr>
          <p:spPr>
            <a:xfrm>
              <a:off x="3070080" y="2206800"/>
              <a:ext cx="3076560" cy="2660400"/>
            </a:xfrm>
            <a:prstGeom prst="triangle">
              <a:avLst>
                <a:gd name="adj" fmla="val 50000"/>
              </a:avLst>
            </a:prstGeom>
            <a:solidFill>
              <a:srgbClr val="6bc9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Oval 142"/>
            <p:cNvSpPr/>
            <p:nvPr/>
          </p:nvSpPr>
          <p:spPr>
            <a:xfrm>
              <a:off x="4510080" y="2387520"/>
              <a:ext cx="193680" cy="193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2" name="Text Box 143"/>
          <p:cNvSpPr/>
          <p:nvPr/>
        </p:nvSpPr>
        <p:spPr>
          <a:xfrm>
            <a:off x="6224760" y="4853160"/>
            <a:ext cx="52992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3" name="Text Box 144"/>
          <p:cNvSpPr/>
          <p:nvPr/>
        </p:nvSpPr>
        <p:spPr>
          <a:xfrm>
            <a:off x="2371680" y="485316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Text Box 145"/>
          <p:cNvSpPr/>
          <p:nvPr/>
        </p:nvSpPr>
        <p:spPr>
          <a:xfrm>
            <a:off x="4356000" y="173664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Text Box 146"/>
          <p:cNvSpPr/>
          <p:nvPr/>
        </p:nvSpPr>
        <p:spPr>
          <a:xfrm>
            <a:off x="7199280" y="134928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164" dur="2000" fill="hold"/>
                                        <p:tgtEl>
                                          <p:spTgt spid="4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7200000">
                                      <p:cBhvr>
                                        <p:cTn id="171" dur="2000" fill="hold"/>
                                        <p:tgtEl>
                                          <p:spTgt spid="4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7200000">
                                      <p:cBhvr>
                                        <p:cTn id="178" dur="2000" fill="hold"/>
                                        <p:tgtEl>
                                          <p:spTgt spid="4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4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4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6" name="Rectangle 148"/>
          <p:cNvSpPr/>
          <p:nvPr/>
        </p:nvSpPr>
        <p:spPr>
          <a:xfrm>
            <a:off x="3541680" y="2554200"/>
            <a:ext cx="2176560" cy="2176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7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8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4119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4120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5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4126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1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4132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7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4138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3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4144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9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7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158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159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4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165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0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171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6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4177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2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4183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8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6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4197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4198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02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4203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4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5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6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7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8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4209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0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1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2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3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4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4215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6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7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8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9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20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4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4225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4226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30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4231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2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3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4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5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6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4237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8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9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0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1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2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4243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4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5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6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7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48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2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quare has rotational symmetry of orde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Rectangle 147"/>
          <p:cNvSpPr/>
          <p:nvPr/>
        </p:nvSpPr>
        <p:spPr>
          <a:xfrm>
            <a:off x="3541680" y="2554200"/>
            <a:ext cx="2176560" cy="2176560"/>
          </a:xfrm>
          <a:prstGeom prst="rect">
            <a:avLst/>
          </a:prstGeom>
          <a:solidFill>
            <a:srgbClr val="fcd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PlaceHolder 1"/>
          <p:cNvSpPr>
            <a:spLocks noGrp="1"/>
          </p:cNvSpPr>
          <p:nvPr>
            <p:ph type="title"/>
          </p:nvPr>
        </p:nvSpPr>
        <p:spPr>
          <a:xfrm>
            <a:off x="418680" y="528444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Rectangle 2"/>
          <p:cNvSpPr/>
          <p:nvPr/>
        </p:nvSpPr>
        <p:spPr>
          <a:xfrm>
            <a:off x="3541680" y="2554200"/>
            <a:ext cx="2176560" cy="2176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7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4258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4259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4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4265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0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4271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6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4277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2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4283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8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6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297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298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3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304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9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310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5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4316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1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4322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7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5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4336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4337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41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4342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3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4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5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6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7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4348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9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0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1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2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3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4354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5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6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7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8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59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3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4364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4365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69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4370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5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4376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7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8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9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0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1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4382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3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4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5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6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87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1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quare has rotational symmetry of orde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2" name="Group 144"/>
          <p:cNvGrpSpPr/>
          <p:nvPr/>
        </p:nvGrpSpPr>
        <p:grpSpPr>
          <a:xfrm>
            <a:off x="3541680" y="2554200"/>
            <a:ext cx="2176560" cy="2176560"/>
            <a:chOff x="3541680" y="2554200"/>
            <a:chExt cx="2176560" cy="2176560"/>
          </a:xfrm>
        </p:grpSpPr>
        <p:sp>
          <p:nvSpPr>
            <p:cNvPr id="4393" name="Rectangle 145"/>
            <p:cNvSpPr/>
            <p:nvPr/>
          </p:nvSpPr>
          <p:spPr>
            <a:xfrm>
              <a:off x="3541680" y="2554200"/>
              <a:ext cx="2176560" cy="2176560"/>
            </a:xfrm>
            <a:prstGeom prst="rect">
              <a:avLst/>
            </a:prstGeom>
            <a:solidFill>
              <a:srgbClr val="fcda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Oval 146"/>
            <p:cNvSpPr/>
            <p:nvPr/>
          </p:nvSpPr>
          <p:spPr>
            <a:xfrm>
              <a:off x="5391000" y="2630520"/>
              <a:ext cx="217800" cy="217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5" name="Rectangle 2"/>
          <p:cNvSpPr/>
          <p:nvPr/>
        </p:nvSpPr>
        <p:spPr>
          <a:xfrm>
            <a:off x="3541680" y="2554200"/>
            <a:ext cx="2176560" cy="2176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7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4398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4399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4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4405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0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4411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6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4417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2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4423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8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6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437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438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3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444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9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450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5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4456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1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4462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7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5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4476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4477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1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4482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3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4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5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6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7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4488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9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0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1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2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3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4494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5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6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7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8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99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3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4504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4505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09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4510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1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2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3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4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5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4516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7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8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9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0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1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4522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3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4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5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6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27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1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quare has rotational symmetry of orde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Text Box 139"/>
          <p:cNvSpPr/>
          <p:nvPr/>
        </p:nvSpPr>
        <p:spPr>
          <a:xfrm>
            <a:off x="5959440" y="465948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Text Box 140"/>
          <p:cNvSpPr/>
          <p:nvPr/>
        </p:nvSpPr>
        <p:spPr>
          <a:xfrm>
            <a:off x="2778120" y="465948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Text Box 141"/>
          <p:cNvSpPr/>
          <p:nvPr/>
        </p:nvSpPr>
        <p:spPr>
          <a:xfrm>
            <a:off x="2760840" y="2347920"/>
            <a:ext cx="52992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Text Box 142"/>
          <p:cNvSpPr/>
          <p:nvPr/>
        </p:nvSpPr>
        <p:spPr>
          <a:xfrm>
            <a:off x="7199280" y="134928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Text Box 143"/>
          <p:cNvSpPr/>
          <p:nvPr/>
        </p:nvSpPr>
        <p:spPr>
          <a:xfrm>
            <a:off x="5959440" y="236520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7" name="Group 144"/>
          <p:cNvGrpSpPr/>
          <p:nvPr/>
        </p:nvGrpSpPr>
        <p:grpSpPr>
          <a:xfrm>
            <a:off x="3541680" y="2554200"/>
            <a:ext cx="2176560" cy="2176560"/>
            <a:chOff x="3541680" y="2554200"/>
            <a:chExt cx="2176560" cy="2176560"/>
          </a:xfrm>
        </p:grpSpPr>
        <p:sp>
          <p:nvSpPr>
            <p:cNvPr id="4538" name="Rectangle 145"/>
            <p:cNvSpPr/>
            <p:nvPr/>
          </p:nvSpPr>
          <p:spPr>
            <a:xfrm>
              <a:off x="3541680" y="2554200"/>
              <a:ext cx="2176560" cy="2176560"/>
            </a:xfrm>
            <a:prstGeom prst="rect">
              <a:avLst/>
            </a:prstGeom>
            <a:solidFill>
              <a:srgbClr val="fcda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Oval 146"/>
            <p:cNvSpPr/>
            <p:nvPr/>
          </p:nvSpPr>
          <p:spPr>
            <a:xfrm>
              <a:off x="5391000" y="2630520"/>
              <a:ext cx="217800" cy="217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92" dur="2000" fill="hold"/>
                                        <p:tgtEl>
                                          <p:spTgt spid="4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4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199" dur="2000" fill="hold"/>
                                        <p:tgtEl>
                                          <p:spTgt spid="4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206" dur="2000" fill="hold"/>
                                        <p:tgtEl>
                                          <p:spTgt spid="4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4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213" dur="2000" fill="hold"/>
                                        <p:tgtEl>
                                          <p:spTgt spid="4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 Sym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Text Box 3"/>
          <p:cNvSpPr/>
          <p:nvPr/>
        </p:nvSpPr>
        <p:spPr>
          <a:xfrm>
            <a:off x="333360" y="1523880"/>
            <a:ext cx="881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gure also h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int sym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it can be rotated 180 degrees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If the figure looks the same upside down, then it has point symmetry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2" name="Picture 5" descr="http://www.mathsisfun.com/geometry/images/king-of-hearts.jpg"/>
          <p:cNvPicPr/>
          <p:nvPr/>
        </p:nvPicPr>
        <p:blipFill>
          <a:blip r:embed="rId1"/>
          <a:stretch/>
        </p:blipFill>
        <p:spPr>
          <a:xfrm>
            <a:off x="682560" y="3394080"/>
            <a:ext cx="2565360" cy="3463920"/>
          </a:xfrm>
          <a:prstGeom prst="rect">
            <a:avLst/>
          </a:prstGeom>
          <a:ln w="0">
            <a:noFill/>
          </a:ln>
        </p:spPr>
      </p:pic>
      <p:pic>
        <p:nvPicPr>
          <p:cNvPr id="4543" name="Picture 7" descr="http://dev.physicslab.org/img/a3f12207-11e5-43ac-b269-aa5346c6e655.gif"/>
          <p:cNvPicPr/>
          <p:nvPr/>
        </p:nvPicPr>
        <p:blipFill>
          <a:blip r:embed="rId2"/>
          <a:stretch/>
        </p:blipFill>
        <p:spPr>
          <a:xfrm>
            <a:off x="5334120" y="266688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4544" name="Text Box 8"/>
          <p:cNvSpPr/>
          <p:nvPr/>
        </p:nvSpPr>
        <p:spPr>
          <a:xfrm>
            <a:off x="3416400" y="6278400"/>
            <a:ext cx="57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0/4 = 90 two rotation make 1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AutoShape 10"/>
          <p:cNvSpPr/>
          <p:nvPr/>
        </p:nvSpPr>
        <p:spPr>
          <a:xfrm>
            <a:off x="5181480" y="2362320"/>
            <a:ext cx="2590920" cy="838080"/>
          </a:xfrm>
          <a:custGeom>
            <a:avLst/>
            <a:gdLst>
              <a:gd name="textAreaLeft" fmla="*/ 379440 w 2590920"/>
              <a:gd name="textAreaRight" fmla="*/ 2211480 w 2590920"/>
              <a:gd name="textAreaTop" fmla="*/ 122760 h 838080"/>
              <a:gd name="textAreaBottom" fmla="*/ 715320 h 838080"/>
            </a:gdLst>
            <a:ahLst/>
            <a:rect l="textAreaLeft" t="textAreaTop" r="textAreaRight" b="textAreaBottom"/>
            <a:pathLst>
              <a:path w="21600" h="21600">
                <a:moveTo>
                  <a:pt x="19151" y="10800"/>
                </a:moveTo>
                <a:cubicBezTo>
                  <a:pt x="19151" y="6187"/>
                  <a:pt x="15412" y="2449"/>
                  <a:pt x="10800" y="2449"/>
                </a:cubicBezTo>
                <a:cubicBezTo>
                  <a:pt x="6187" y="2449"/>
                  <a:pt x="2449" y="6187"/>
                  <a:pt x="2449" y="10800"/>
                </a:cubicBezTo>
                <a:cubicBezTo>
                  <a:pt x="2449" y="13233"/>
                  <a:pt x="3510" y="15546"/>
                  <a:pt x="5356" y="17133"/>
                </a:cubicBezTo>
                <a:lnTo>
                  <a:pt x="3760" y="18990"/>
                </a:lnTo>
                <a:cubicBezTo>
                  <a:pt x="1373" y="16938"/>
                  <a:pt x="0" y="13947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376" y="14725"/>
                </a:lnTo>
                <a:lnTo>
                  <a:pt x="16451" y="10800"/>
                </a:lnTo>
                <a:lnTo>
                  <a:pt x="19151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4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4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tion-Symmetric Fig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Text Box 3"/>
          <p:cNvSpPr/>
          <p:nvPr/>
        </p:nvSpPr>
        <p:spPr>
          <a:xfrm>
            <a:off x="228600" y="16765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gure h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here is an isometry that maps the figure onto itself.  If that isometry is a reflection, then the figure h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ction sym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7" name="Picture 5" descr="http://www.art.unt.edu/ntieva/pages/about/newsletters/vol_14/no_1/ReflectionLG.jpg"/>
          <p:cNvPicPr/>
          <p:nvPr/>
        </p:nvPicPr>
        <p:blipFill>
          <a:blip r:embed="rId1"/>
          <a:stretch/>
        </p:blipFill>
        <p:spPr>
          <a:xfrm>
            <a:off x="2438280" y="3308400"/>
            <a:ext cx="396252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6" name="PlaceHolder 1"/>
          <p:cNvSpPr>
            <a:spLocks noGrp="1"/>
          </p:cNvSpPr>
          <p:nvPr>
            <p:ph type="title"/>
          </p:nvPr>
        </p:nvSpPr>
        <p:spPr>
          <a:xfrm>
            <a:off x="609480" y="7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7" name="Text Box 3"/>
          <p:cNvSpPr/>
          <p:nvPr/>
        </p:nvSpPr>
        <p:spPr>
          <a:xfrm>
            <a:off x="1297080" y="1676520"/>
            <a:ext cx="68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the type(s) of symmetry each figure h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8" name="Picture 5" descr="http://gwydir.demon.co.uk/jo/symmetry/exsym8.gif"/>
          <p:cNvPicPr/>
          <p:nvPr/>
        </p:nvPicPr>
        <p:blipFill>
          <a:blip r:embed="rId1"/>
          <a:stretch/>
        </p:blipFill>
        <p:spPr>
          <a:xfrm>
            <a:off x="304920" y="2362320"/>
            <a:ext cx="2057400" cy="1922400"/>
          </a:xfrm>
          <a:prstGeom prst="rect">
            <a:avLst/>
          </a:prstGeom>
          <a:ln w="0">
            <a:noFill/>
          </a:ln>
        </p:spPr>
      </p:pic>
      <p:pic>
        <p:nvPicPr>
          <p:cNvPr id="4549" name="Picture 7" descr="http://www.mp3car.com/vbulletin/attachments/road-runner/29567d1148324532-new-road-runner-clocks-logos-tissy-chevy-logo-blue.jpg"/>
          <p:cNvPicPr/>
          <p:nvPr/>
        </p:nvPicPr>
        <p:blipFill>
          <a:blip r:embed="rId2"/>
          <a:stretch/>
        </p:blipFill>
        <p:spPr>
          <a:xfrm>
            <a:off x="228600" y="4876920"/>
            <a:ext cx="2971800" cy="1433520"/>
          </a:xfrm>
          <a:prstGeom prst="rect">
            <a:avLst/>
          </a:prstGeom>
          <a:ln w="0">
            <a:noFill/>
          </a:ln>
        </p:spPr>
      </p:pic>
      <p:pic>
        <p:nvPicPr>
          <p:cNvPr id="4550" name="Picture 11" descr="http://ecomodder.com/blog/wp-content/uploads/2009/01/20070514-toyota-logo.jpg"/>
          <p:cNvPicPr/>
          <p:nvPr/>
        </p:nvPicPr>
        <p:blipFill>
          <a:blip r:embed="rId3"/>
          <a:srcRect l="0" t="0" r="0" b="7003"/>
          <a:stretch/>
        </p:blipFill>
        <p:spPr>
          <a:xfrm>
            <a:off x="4191120" y="2286000"/>
            <a:ext cx="3200400" cy="2021040"/>
          </a:xfrm>
          <a:prstGeom prst="rect">
            <a:avLst/>
          </a:prstGeom>
          <a:ln w="0">
            <a:noFill/>
          </a:ln>
        </p:spPr>
      </p:pic>
      <p:pic>
        <p:nvPicPr>
          <p:cNvPr id="4551" name="Picture 13" descr="http://www.pbs.org/teachers/mathline/images/butter1.jpg"/>
          <p:cNvPicPr/>
          <p:nvPr/>
        </p:nvPicPr>
        <p:blipFill>
          <a:blip r:embed="rId4"/>
          <a:stretch/>
        </p:blipFill>
        <p:spPr>
          <a:xfrm>
            <a:off x="4648320" y="4572000"/>
            <a:ext cx="2430360" cy="1827360"/>
          </a:xfrm>
          <a:prstGeom prst="rect">
            <a:avLst/>
          </a:prstGeom>
          <a:ln w="0">
            <a:noFill/>
          </a:ln>
        </p:spPr>
      </p:pic>
      <p:sp>
        <p:nvSpPr>
          <p:cNvPr id="4552" name="Text Box 14"/>
          <p:cNvSpPr/>
          <p:nvPr/>
        </p:nvSpPr>
        <p:spPr>
          <a:xfrm>
            <a:off x="2285640" y="243828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of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Text Box 15"/>
          <p:cNvSpPr/>
          <p:nvPr/>
        </p:nvSpPr>
        <p:spPr>
          <a:xfrm>
            <a:off x="7374240" y="24033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Line 16"/>
          <p:cNvSpPr/>
          <p:nvPr/>
        </p:nvSpPr>
        <p:spPr>
          <a:xfrm>
            <a:off x="5791320" y="2057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Text Box 17"/>
          <p:cNvSpPr/>
          <p:nvPr/>
        </p:nvSpPr>
        <p:spPr>
          <a:xfrm>
            <a:off x="3108240" y="4689360"/>
            <a:ext cx="123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and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Text Box 18"/>
          <p:cNvSpPr/>
          <p:nvPr/>
        </p:nvSpPr>
        <p:spPr>
          <a:xfrm>
            <a:off x="7297920" y="47656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Line 19"/>
          <p:cNvSpPr/>
          <p:nvPr/>
        </p:nvSpPr>
        <p:spPr>
          <a:xfrm>
            <a:off x="5867280" y="44956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4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4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4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4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4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4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Text Box 3"/>
          <p:cNvSpPr/>
          <p:nvPr/>
        </p:nvSpPr>
        <p:spPr>
          <a:xfrm>
            <a:off x="914400" y="1752480"/>
            <a:ext cx="729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s of symmetry can cut through shapes that have reflection 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0" name="Picture 5" descr="http://intermath.coe.uga.edu/dictnary/images/symmetry/Trefsym.gif"/>
          <p:cNvPicPr/>
          <p:nvPr/>
        </p:nvPicPr>
        <p:blipFill>
          <a:blip r:embed="rId1"/>
          <a:stretch/>
        </p:blipFill>
        <p:spPr>
          <a:xfrm>
            <a:off x="838080" y="3124080"/>
            <a:ext cx="2044800" cy="3413160"/>
          </a:xfrm>
          <a:prstGeom prst="rect">
            <a:avLst/>
          </a:prstGeom>
          <a:ln w="0">
            <a:noFill/>
          </a:ln>
        </p:spPr>
      </p:pic>
      <p:sp>
        <p:nvSpPr>
          <p:cNvPr id="3001" name="Text Box 6"/>
          <p:cNvSpPr/>
          <p:nvPr/>
        </p:nvSpPr>
        <p:spPr>
          <a:xfrm>
            <a:off x="4110480" y="3276720"/>
            <a:ext cx="46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in lines of symmetry for e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Text Box 7"/>
          <p:cNvSpPr/>
          <p:nvPr/>
        </p:nvSpPr>
        <p:spPr>
          <a:xfrm>
            <a:off x="5779080" y="3733920"/>
            <a:ext cx="6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Text Box 8"/>
          <p:cNvSpPr/>
          <p:nvPr/>
        </p:nvSpPr>
        <p:spPr>
          <a:xfrm>
            <a:off x="5782320" y="4724280"/>
            <a:ext cx="6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Text Box 9"/>
          <p:cNvSpPr/>
          <p:nvPr/>
        </p:nvSpPr>
        <p:spPr>
          <a:xfrm>
            <a:off x="5774400" y="5791320"/>
            <a:ext cx="6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Line 11"/>
          <p:cNvSpPr/>
          <p:nvPr/>
        </p:nvSpPr>
        <p:spPr>
          <a:xfrm>
            <a:off x="609588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Line 12"/>
          <p:cNvSpPr/>
          <p:nvPr/>
        </p:nvSpPr>
        <p:spPr>
          <a:xfrm>
            <a:off x="5334120" y="5181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Text Box 13"/>
          <p:cNvSpPr/>
          <p:nvPr/>
        </p:nvSpPr>
        <p:spPr>
          <a:xfrm>
            <a:off x="6614640" y="5908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3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3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 Theore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9" name="Picture 4" descr="http://upload.wikimedia.org/wikipedia/commons/thumb/d/d6/Reflection_symmetry.svg/800px-Reflection_symmetry.svg.png"/>
          <p:cNvPicPr/>
          <p:nvPr/>
        </p:nvPicPr>
        <p:blipFill>
          <a:blip r:embed="rId1"/>
          <a:srcRect l="0" t="19864" r="0" b="12629"/>
          <a:stretch/>
        </p:blipFill>
        <p:spPr>
          <a:xfrm>
            <a:off x="1600200" y="3581280"/>
            <a:ext cx="5329080" cy="2621160"/>
          </a:xfrm>
          <a:prstGeom prst="rect">
            <a:avLst/>
          </a:prstGeom>
          <a:ln w="0">
            <a:noFill/>
          </a:ln>
        </p:spPr>
      </p:pic>
      <p:sp>
        <p:nvSpPr>
          <p:cNvPr id="3010" name="Text Box 5"/>
          <p:cNvSpPr/>
          <p:nvPr/>
        </p:nvSpPr>
        <p:spPr>
          <a:xfrm>
            <a:off x="609480" y="1752480"/>
            <a:ext cx="736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s with reflection symmetry have their pre-images and images equal distances from the reflection mi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Text Box 6"/>
          <p:cNvSpPr/>
          <p:nvPr/>
        </p:nvSpPr>
        <p:spPr>
          <a:xfrm>
            <a:off x="3353760" y="34290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Text Box 7"/>
          <p:cNvSpPr/>
          <p:nvPr/>
        </p:nvSpPr>
        <p:spPr>
          <a:xfrm>
            <a:off x="3049200" y="45720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Text Box 8"/>
          <p:cNvSpPr/>
          <p:nvPr/>
        </p:nvSpPr>
        <p:spPr>
          <a:xfrm>
            <a:off x="2667960" y="594360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Text Box 9"/>
          <p:cNvSpPr/>
          <p:nvPr/>
        </p:nvSpPr>
        <p:spPr>
          <a:xfrm>
            <a:off x="46339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Text Box 10"/>
          <p:cNvSpPr/>
          <p:nvPr/>
        </p:nvSpPr>
        <p:spPr>
          <a:xfrm>
            <a:off x="455796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Text Box 11"/>
          <p:cNvSpPr/>
          <p:nvPr/>
        </p:nvSpPr>
        <p:spPr>
          <a:xfrm>
            <a:off x="4954680" y="5867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3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3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3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rcle Symmetr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Text Box 3"/>
          <p:cNvSpPr/>
          <p:nvPr/>
        </p:nvSpPr>
        <p:spPr>
          <a:xfrm>
            <a:off x="1144440" y="1778040"/>
            <a:ext cx="73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lines of symmetry does a circle have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9" name="Picture 5" descr="http://www.kwiznet.com/images/questions/grade3/circle_symmetry.gif"/>
          <p:cNvPicPr/>
          <p:nvPr/>
        </p:nvPicPr>
        <p:blipFill>
          <a:blip r:embed="rId1"/>
          <a:stretch/>
        </p:blipFill>
        <p:spPr>
          <a:xfrm>
            <a:off x="1066680" y="2824200"/>
            <a:ext cx="2971800" cy="2624040"/>
          </a:xfrm>
          <a:prstGeom prst="rect">
            <a:avLst/>
          </a:prstGeom>
          <a:ln w="0">
            <a:noFill/>
          </a:ln>
        </p:spPr>
      </p:pic>
      <p:sp>
        <p:nvSpPr>
          <p:cNvPr id="3020" name="Text Box 6"/>
          <p:cNvSpPr/>
          <p:nvPr/>
        </p:nvSpPr>
        <p:spPr>
          <a:xfrm>
            <a:off x="5013360" y="308916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init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3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metric Figures Theore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Text Box 3"/>
          <p:cNvSpPr/>
          <p:nvPr/>
        </p:nvSpPr>
        <p:spPr>
          <a:xfrm>
            <a:off x="1067400" y="1828800"/>
            <a:ext cx="70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symmetric figure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gru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its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3" name="Picture 5" descr="http://thesaurus.maths.org/mmkb/media/png/Reflectionalsymmetry.png"/>
          <p:cNvPicPr/>
          <p:nvPr/>
        </p:nvPicPr>
        <p:blipFill>
          <a:blip r:embed="rId1"/>
          <a:stretch/>
        </p:blipFill>
        <p:spPr>
          <a:xfrm>
            <a:off x="3048120" y="27432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ation Symmetr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Text Box 3"/>
          <p:cNvSpPr/>
          <p:nvPr/>
        </p:nvSpPr>
        <p:spPr>
          <a:xfrm>
            <a:off x="484200" y="1752480"/>
            <a:ext cx="865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gure h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tational sym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it’s congruent after a rot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80 degrees or less (greater than zer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6" name="Picture 5" descr="http://thesaurus.maths.org/mmkb/media/png/RotationalSymmetry.png"/>
          <p:cNvPicPr/>
          <p:nvPr/>
        </p:nvPicPr>
        <p:blipFill>
          <a:blip r:embed="rId1"/>
          <a:stretch/>
        </p:blipFill>
        <p:spPr>
          <a:xfrm>
            <a:off x="457200" y="3048120"/>
            <a:ext cx="3349800" cy="3429000"/>
          </a:xfrm>
          <a:prstGeom prst="rect">
            <a:avLst/>
          </a:prstGeom>
          <a:ln w="0">
            <a:noFill/>
          </a:ln>
        </p:spPr>
      </p:pic>
      <p:sp>
        <p:nvSpPr>
          <p:cNvPr id="3027" name="Text Box 6"/>
          <p:cNvSpPr/>
          <p:nvPr/>
        </p:nvSpPr>
        <p:spPr>
          <a:xfrm>
            <a:off x="4572000" y="3048120"/>
            <a:ext cx="425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degrees of roation by dividing 360 by number of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Text Box 7"/>
          <p:cNvSpPr/>
          <p:nvPr/>
        </p:nvSpPr>
        <p:spPr>
          <a:xfrm>
            <a:off x="5315040" y="4591080"/>
            <a:ext cx="21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0/3 = 1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3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 of Rotational Sym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Text Box 250"/>
          <p:cNvSpPr/>
          <p:nvPr/>
        </p:nvSpPr>
        <p:spPr>
          <a:xfrm>
            <a:off x="3048120" y="1752480"/>
            <a:ext cx="2639880" cy="2228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rder of rotational symmetry that an object ha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s the number of times that it fits on to itsel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uring a full rotation of 360 degre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1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032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033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8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039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4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045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0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051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6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057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2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0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071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072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7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078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3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084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9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090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5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096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1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9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110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111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15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116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7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8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9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1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122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7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128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33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7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138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139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3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144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9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150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5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156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61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5" name="Text Box 138"/>
          <p:cNvSpPr/>
          <p:nvPr/>
        </p:nvSpPr>
        <p:spPr>
          <a:xfrm>
            <a:off x="544680" y="1378080"/>
            <a:ext cx="72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order of rotational symmetry of the shape bel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6" name="Group 186"/>
          <p:cNvGrpSpPr/>
          <p:nvPr/>
        </p:nvGrpSpPr>
        <p:grpSpPr>
          <a:xfrm>
            <a:off x="2781360" y="2281320"/>
            <a:ext cx="3370320" cy="3370320"/>
            <a:chOff x="2781360" y="2281320"/>
            <a:chExt cx="3370320" cy="3370320"/>
          </a:xfrm>
        </p:grpSpPr>
        <p:sp>
          <p:nvSpPr>
            <p:cNvPr id="3167" name="Oval 187"/>
            <p:cNvSpPr/>
            <p:nvPr/>
          </p:nvSpPr>
          <p:spPr>
            <a:xfrm>
              <a:off x="2781360" y="2281320"/>
              <a:ext cx="3370320" cy="3370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8" name="Group 188"/>
            <p:cNvGrpSpPr/>
            <p:nvPr/>
          </p:nvGrpSpPr>
          <p:grpSpPr>
            <a:xfrm>
              <a:off x="2853000" y="2310120"/>
              <a:ext cx="3211560" cy="3057120"/>
              <a:chOff x="2853000" y="2310120"/>
              <a:chExt cx="3211560" cy="3057120"/>
            </a:xfrm>
          </p:grpSpPr>
          <p:sp>
            <p:nvSpPr>
              <p:cNvPr id="3169" name="AutoShape 189"/>
              <p:cNvSpPr/>
              <p:nvPr/>
            </p:nvSpPr>
            <p:spPr>
              <a:xfrm>
                <a:off x="2858040" y="2314800"/>
                <a:ext cx="3206520" cy="3047400"/>
              </a:xfrm>
              <a:prstGeom prst="pentagon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AutoShape 190"/>
              <p:cNvSpPr/>
              <p:nvPr/>
            </p:nvSpPr>
            <p:spPr>
              <a:xfrm>
                <a:off x="2858040" y="2314800"/>
                <a:ext cx="3206520" cy="3047400"/>
              </a:xfrm>
              <a:prstGeom prst="pentagon">
                <a:avLst/>
              </a:prstGeom>
              <a:solidFill>
                <a:srgbClr val="edbf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Line 191"/>
              <p:cNvSpPr/>
              <p:nvPr/>
            </p:nvSpPr>
            <p:spPr>
              <a:xfrm>
                <a:off x="2858040" y="3476880"/>
                <a:ext cx="32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Line 192"/>
              <p:cNvSpPr/>
              <p:nvPr/>
            </p:nvSpPr>
            <p:spPr>
              <a:xfrm>
                <a:off x="2853000" y="3481560"/>
                <a:ext cx="2590920" cy="18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Line 193"/>
              <p:cNvSpPr/>
              <p:nvPr/>
            </p:nvSpPr>
            <p:spPr>
              <a:xfrm flipH="1">
                <a:off x="3478320" y="3478320"/>
                <a:ext cx="2584440" cy="18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Line 194"/>
              <p:cNvSpPr/>
              <p:nvPr/>
            </p:nvSpPr>
            <p:spPr>
              <a:xfrm flipH="1" flipV="1">
                <a:off x="4459320" y="2316240"/>
                <a:ext cx="979560" cy="304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Line 195"/>
              <p:cNvSpPr/>
              <p:nvPr/>
            </p:nvSpPr>
            <p:spPr>
              <a:xfrm flipV="1">
                <a:off x="3486600" y="2311200"/>
                <a:ext cx="974520" cy="303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Freeform 196"/>
              <p:cNvSpPr/>
              <p:nvPr/>
            </p:nvSpPr>
            <p:spPr>
              <a:xfrm>
                <a:off x="3853080" y="3476880"/>
                <a:ext cx="1209960" cy="1171080"/>
              </a:xfrm>
              <a:custGeom>
                <a:avLst/>
                <a:gdLst/>
                <a:ahLst/>
                <a:rect l="l" t="t" r="r" b="b"/>
                <a:pathLst>
                  <a:path w="762" h="738">
                    <a:moveTo>
                      <a:pt x="141" y="0"/>
                    </a:moveTo>
                    <a:lnTo>
                      <a:pt x="615" y="0"/>
                    </a:lnTo>
                    <a:lnTo>
                      <a:pt x="762" y="456"/>
                    </a:lnTo>
                    <a:lnTo>
                      <a:pt x="384" y="738"/>
                    </a:lnTo>
                    <a:lnTo>
                      <a:pt x="0" y="459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Freeform 197"/>
              <p:cNvSpPr/>
              <p:nvPr/>
            </p:nvSpPr>
            <p:spPr>
              <a:xfrm>
                <a:off x="4086720" y="2314800"/>
                <a:ext cx="749160" cy="1158480"/>
              </a:xfrm>
              <a:custGeom>
                <a:avLst/>
                <a:gdLst/>
                <a:ahLst/>
                <a:rect l="l" t="t" r="r" b="b"/>
                <a:pathLst>
                  <a:path w="472" h="730">
                    <a:moveTo>
                      <a:pt x="0" y="730"/>
                    </a:moveTo>
                    <a:lnTo>
                      <a:pt x="232" y="0"/>
                    </a:lnTo>
                    <a:lnTo>
                      <a:pt x="472" y="728"/>
                    </a:lnTo>
                    <a:lnTo>
                      <a:pt x="0" y="73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Freeform 198"/>
              <p:cNvSpPr/>
              <p:nvPr/>
            </p:nvSpPr>
            <p:spPr>
              <a:xfrm>
                <a:off x="4835880" y="3470400"/>
                <a:ext cx="1228680" cy="726840"/>
              </a:xfrm>
              <a:custGeom>
                <a:avLst/>
                <a:gdLst/>
                <a:ahLst/>
                <a:rect l="l" t="t" r="r" b="b"/>
                <a:pathLst>
                  <a:path w="774" h="458">
                    <a:moveTo>
                      <a:pt x="0" y="0"/>
                    </a:moveTo>
                    <a:lnTo>
                      <a:pt x="774" y="0"/>
                    </a:lnTo>
                    <a:lnTo>
                      <a:pt x="148" y="4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Freeform 199"/>
              <p:cNvSpPr/>
              <p:nvPr/>
            </p:nvSpPr>
            <p:spPr>
              <a:xfrm>
                <a:off x="4467600" y="4206960"/>
                <a:ext cx="971640" cy="1152360"/>
              </a:xfrm>
              <a:custGeom>
                <a:avLst/>
                <a:gdLst/>
                <a:ahLst/>
                <a:rect l="l" t="t" r="r" b="b"/>
                <a:pathLst>
                  <a:path w="612" h="726">
                    <a:moveTo>
                      <a:pt x="612" y="726"/>
                    </a:moveTo>
                    <a:lnTo>
                      <a:pt x="0" y="278"/>
                    </a:lnTo>
                    <a:lnTo>
                      <a:pt x="382" y="0"/>
                    </a:lnTo>
                    <a:lnTo>
                      <a:pt x="612" y="7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Freeform 200"/>
              <p:cNvSpPr/>
              <p:nvPr/>
            </p:nvSpPr>
            <p:spPr>
              <a:xfrm>
                <a:off x="3480120" y="4203720"/>
                <a:ext cx="981000" cy="1155600"/>
              </a:xfrm>
              <a:custGeom>
                <a:avLst/>
                <a:gdLst/>
                <a:ahLst/>
                <a:rect l="l" t="t" r="r" b="b"/>
                <a:pathLst>
                  <a:path w="618" h="728">
                    <a:moveTo>
                      <a:pt x="234" y="0"/>
                    </a:moveTo>
                    <a:lnTo>
                      <a:pt x="0" y="728"/>
                    </a:lnTo>
                    <a:lnTo>
                      <a:pt x="618" y="28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Freeform 201"/>
              <p:cNvSpPr/>
              <p:nvPr/>
            </p:nvSpPr>
            <p:spPr>
              <a:xfrm>
                <a:off x="2858040" y="3473640"/>
                <a:ext cx="1222200" cy="732960"/>
              </a:xfrm>
              <a:custGeom>
                <a:avLst/>
                <a:gdLst/>
                <a:ahLst/>
                <a:rect l="l" t="t" r="r" b="b"/>
                <a:pathLst>
                  <a:path w="770" h="462">
                    <a:moveTo>
                      <a:pt x="770" y="0"/>
                    </a:moveTo>
                    <a:lnTo>
                      <a:pt x="0" y="2"/>
                    </a:lnTo>
                    <a:lnTo>
                      <a:pt x="626" y="46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Freeform 202"/>
              <p:cNvSpPr/>
              <p:nvPr/>
            </p:nvSpPr>
            <p:spPr>
              <a:xfrm>
                <a:off x="4462920" y="2310120"/>
                <a:ext cx="1595520" cy="1157040"/>
              </a:xfrm>
              <a:custGeom>
                <a:avLst/>
                <a:gdLst/>
                <a:ahLst/>
                <a:rect l="l" t="t" r="r" b="b"/>
                <a:pathLst>
                  <a:path w="1005" h="729">
                    <a:moveTo>
                      <a:pt x="1005" y="729"/>
                    </a:moveTo>
                    <a:lnTo>
                      <a:pt x="240" y="729"/>
                    </a:lnTo>
                    <a:lnTo>
                      <a:pt x="0" y="0"/>
                    </a:lnTo>
                    <a:lnTo>
                      <a:pt x="1005" y="729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Freeform 203"/>
              <p:cNvSpPr/>
              <p:nvPr/>
            </p:nvSpPr>
            <p:spPr>
              <a:xfrm>
                <a:off x="5072400" y="3471840"/>
                <a:ext cx="990720" cy="1885680"/>
              </a:xfrm>
              <a:custGeom>
                <a:avLst/>
                <a:gdLst/>
                <a:ahLst/>
                <a:rect l="l" t="t" r="r" b="b"/>
                <a:pathLst>
                  <a:path w="624" h="1188">
                    <a:moveTo>
                      <a:pt x="624" y="0"/>
                    </a:moveTo>
                    <a:lnTo>
                      <a:pt x="228" y="1188"/>
                    </a:lnTo>
                    <a:lnTo>
                      <a:pt x="0" y="462"/>
                    </a:lnTo>
                    <a:lnTo>
                      <a:pt x="624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Freeform 204"/>
              <p:cNvSpPr/>
              <p:nvPr/>
            </p:nvSpPr>
            <p:spPr>
              <a:xfrm>
                <a:off x="3481920" y="4653000"/>
                <a:ext cx="1957320" cy="714240"/>
              </a:xfrm>
              <a:custGeom>
                <a:avLst/>
                <a:gdLst/>
                <a:ahLst/>
                <a:rect l="l" t="t" r="r" b="b"/>
                <a:pathLst>
                  <a:path w="1233" h="450">
                    <a:moveTo>
                      <a:pt x="0" y="450"/>
                    </a:moveTo>
                    <a:lnTo>
                      <a:pt x="1233" y="450"/>
                    </a:lnTo>
                    <a:lnTo>
                      <a:pt x="621" y="0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Freeform 205"/>
              <p:cNvSpPr/>
              <p:nvPr/>
            </p:nvSpPr>
            <p:spPr>
              <a:xfrm>
                <a:off x="2862720" y="3476880"/>
                <a:ext cx="985680" cy="1880640"/>
              </a:xfrm>
              <a:custGeom>
                <a:avLst/>
                <a:gdLst/>
                <a:ahLst/>
                <a:rect l="l" t="t" r="r" b="b"/>
                <a:pathLst>
                  <a:path w="621" h="1185">
                    <a:moveTo>
                      <a:pt x="0" y="0"/>
                    </a:moveTo>
                    <a:lnTo>
                      <a:pt x="621" y="459"/>
                    </a:lnTo>
                    <a:lnTo>
                      <a:pt x="390" y="1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Freeform 206"/>
              <p:cNvSpPr/>
              <p:nvPr/>
            </p:nvSpPr>
            <p:spPr>
              <a:xfrm>
                <a:off x="2862720" y="2310120"/>
                <a:ext cx="1590480" cy="1166760"/>
              </a:xfrm>
              <a:custGeom>
                <a:avLst/>
                <a:gdLst/>
                <a:ahLst/>
                <a:rect l="l" t="t" r="r" b="b"/>
                <a:pathLst>
                  <a:path w="1002" h="735">
                    <a:moveTo>
                      <a:pt x="0" y="732"/>
                    </a:moveTo>
                    <a:lnTo>
                      <a:pt x="1002" y="0"/>
                    </a:lnTo>
                    <a:lnTo>
                      <a:pt x="768" y="735"/>
                    </a:lnTo>
                    <a:lnTo>
                      <a:pt x="0" y="732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7" name="Group 185"/>
          <p:cNvGrpSpPr/>
          <p:nvPr/>
        </p:nvGrpSpPr>
        <p:grpSpPr>
          <a:xfrm>
            <a:off x="2725560" y="2246400"/>
            <a:ext cx="3493800" cy="3493800"/>
            <a:chOff x="2725560" y="2246400"/>
            <a:chExt cx="3493800" cy="3493800"/>
          </a:xfrm>
        </p:grpSpPr>
        <p:sp>
          <p:nvSpPr>
            <p:cNvPr id="3188" name="Oval 142"/>
            <p:cNvSpPr/>
            <p:nvPr/>
          </p:nvSpPr>
          <p:spPr>
            <a:xfrm>
              <a:off x="2725560" y="2246400"/>
              <a:ext cx="3493800" cy="3493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9" name="Group 165"/>
            <p:cNvGrpSpPr/>
            <p:nvPr/>
          </p:nvGrpSpPr>
          <p:grpSpPr>
            <a:xfrm>
              <a:off x="2799720" y="2275920"/>
              <a:ext cx="3328920" cy="3169440"/>
              <a:chOff x="2799720" y="2275920"/>
              <a:chExt cx="3328920" cy="3169440"/>
            </a:xfrm>
          </p:grpSpPr>
          <p:sp>
            <p:nvSpPr>
              <p:cNvPr id="3190" name="AutoShape 2"/>
              <p:cNvSpPr/>
              <p:nvPr/>
            </p:nvSpPr>
            <p:spPr>
              <a:xfrm>
                <a:off x="2804760" y="2280960"/>
                <a:ext cx="3323880" cy="3159000"/>
              </a:xfrm>
              <a:prstGeom prst="pentagon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AutoShape 141"/>
              <p:cNvSpPr/>
              <p:nvPr/>
            </p:nvSpPr>
            <p:spPr>
              <a:xfrm>
                <a:off x="2804760" y="2280960"/>
                <a:ext cx="3323880" cy="3159000"/>
              </a:xfrm>
              <a:prstGeom prst="pentagon">
                <a:avLst/>
              </a:prstGeom>
              <a:solidFill>
                <a:srgbClr val="edbf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Line 149"/>
              <p:cNvSpPr/>
              <p:nvPr/>
            </p:nvSpPr>
            <p:spPr>
              <a:xfrm>
                <a:off x="2804760" y="3485520"/>
                <a:ext cx="332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Line 150"/>
              <p:cNvSpPr/>
              <p:nvPr/>
            </p:nvSpPr>
            <p:spPr>
              <a:xfrm>
                <a:off x="2799720" y="3490560"/>
                <a:ext cx="2685600" cy="19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Line 151"/>
              <p:cNvSpPr/>
              <p:nvPr/>
            </p:nvSpPr>
            <p:spPr>
              <a:xfrm flipH="1">
                <a:off x="3448080" y="3486960"/>
                <a:ext cx="2679120" cy="19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Line 152"/>
              <p:cNvSpPr/>
              <p:nvPr/>
            </p:nvSpPr>
            <p:spPr>
              <a:xfrm flipH="1" flipV="1">
                <a:off x="4465080" y="2282400"/>
                <a:ext cx="1015200" cy="315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Line 153"/>
              <p:cNvSpPr/>
              <p:nvPr/>
            </p:nvSpPr>
            <p:spPr>
              <a:xfrm flipV="1">
                <a:off x="3456360" y="2277720"/>
                <a:ext cx="1010160" cy="314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Freeform 154"/>
              <p:cNvSpPr/>
              <p:nvPr/>
            </p:nvSpPr>
            <p:spPr>
              <a:xfrm>
                <a:off x="3836160" y="3485520"/>
                <a:ext cx="1254240" cy="1214280"/>
              </a:xfrm>
              <a:custGeom>
                <a:avLst/>
                <a:gdLst/>
                <a:ahLst/>
                <a:rect l="l" t="t" r="r" b="b"/>
                <a:pathLst>
                  <a:path w="762" h="738">
                    <a:moveTo>
                      <a:pt x="141" y="0"/>
                    </a:moveTo>
                    <a:lnTo>
                      <a:pt x="615" y="0"/>
                    </a:lnTo>
                    <a:lnTo>
                      <a:pt x="762" y="456"/>
                    </a:lnTo>
                    <a:lnTo>
                      <a:pt x="384" y="738"/>
                    </a:lnTo>
                    <a:lnTo>
                      <a:pt x="0" y="459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Freeform 155"/>
              <p:cNvSpPr/>
              <p:nvPr/>
            </p:nvSpPr>
            <p:spPr>
              <a:xfrm>
                <a:off x="4078440" y="2280960"/>
                <a:ext cx="776520" cy="1200960"/>
              </a:xfrm>
              <a:custGeom>
                <a:avLst/>
                <a:gdLst/>
                <a:ahLst/>
                <a:rect l="l" t="t" r="r" b="b"/>
                <a:pathLst>
                  <a:path w="472" h="730">
                    <a:moveTo>
                      <a:pt x="0" y="730"/>
                    </a:moveTo>
                    <a:lnTo>
                      <a:pt x="232" y="0"/>
                    </a:lnTo>
                    <a:lnTo>
                      <a:pt x="472" y="728"/>
                    </a:lnTo>
                    <a:lnTo>
                      <a:pt x="0" y="73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Freeform 156"/>
              <p:cNvSpPr/>
              <p:nvPr/>
            </p:nvSpPr>
            <p:spPr>
              <a:xfrm>
                <a:off x="4854960" y="3479040"/>
                <a:ext cx="1273680" cy="753480"/>
              </a:xfrm>
              <a:custGeom>
                <a:avLst/>
                <a:gdLst/>
                <a:ahLst/>
                <a:rect l="l" t="t" r="r" b="b"/>
                <a:pathLst>
                  <a:path w="774" h="458">
                    <a:moveTo>
                      <a:pt x="0" y="0"/>
                    </a:moveTo>
                    <a:lnTo>
                      <a:pt x="774" y="0"/>
                    </a:lnTo>
                    <a:lnTo>
                      <a:pt x="148" y="4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Freeform 157"/>
              <p:cNvSpPr/>
              <p:nvPr/>
            </p:nvSpPr>
            <p:spPr>
              <a:xfrm>
                <a:off x="4473360" y="4242240"/>
                <a:ext cx="1006920" cy="1194840"/>
              </a:xfrm>
              <a:custGeom>
                <a:avLst/>
                <a:gdLst/>
                <a:ahLst/>
                <a:rect l="l" t="t" r="r" b="b"/>
                <a:pathLst>
                  <a:path w="612" h="726">
                    <a:moveTo>
                      <a:pt x="612" y="726"/>
                    </a:moveTo>
                    <a:lnTo>
                      <a:pt x="0" y="278"/>
                    </a:lnTo>
                    <a:lnTo>
                      <a:pt x="382" y="0"/>
                    </a:lnTo>
                    <a:lnTo>
                      <a:pt x="612" y="7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Freeform 158"/>
              <p:cNvSpPr/>
              <p:nvPr/>
            </p:nvSpPr>
            <p:spPr>
              <a:xfrm>
                <a:off x="3449520" y="4239000"/>
                <a:ext cx="1016640" cy="1198080"/>
              </a:xfrm>
              <a:custGeom>
                <a:avLst/>
                <a:gdLst/>
                <a:ahLst/>
                <a:rect l="l" t="t" r="r" b="b"/>
                <a:pathLst>
                  <a:path w="618" h="728">
                    <a:moveTo>
                      <a:pt x="234" y="0"/>
                    </a:moveTo>
                    <a:lnTo>
                      <a:pt x="0" y="728"/>
                    </a:lnTo>
                    <a:lnTo>
                      <a:pt x="618" y="28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Freeform 159"/>
              <p:cNvSpPr/>
              <p:nvPr/>
            </p:nvSpPr>
            <p:spPr>
              <a:xfrm>
                <a:off x="2804760" y="3482280"/>
                <a:ext cx="1266840" cy="759960"/>
              </a:xfrm>
              <a:custGeom>
                <a:avLst/>
                <a:gdLst/>
                <a:ahLst/>
                <a:rect l="l" t="t" r="r" b="b"/>
                <a:pathLst>
                  <a:path w="770" h="462">
                    <a:moveTo>
                      <a:pt x="770" y="0"/>
                    </a:moveTo>
                    <a:lnTo>
                      <a:pt x="0" y="2"/>
                    </a:lnTo>
                    <a:lnTo>
                      <a:pt x="626" y="46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Freeform 160"/>
              <p:cNvSpPr/>
              <p:nvPr/>
            </p:nvSpPr>
            <p:spPr>
              <a:xfrm>
                <a:off x="4468320" y="2275920"/>
                <a:ext cx="1653840" cy="1199520"/>
              </a:xfrm>
              <a:custGeom>
                <a:avLst/>
                <a:gdLst/>
                <a:ahLst/>
                <a:rect l="l" t="t" r="r" b="b"/>
                <a:pathLst>
                  <a:path w="1005" h="729">
                    <a:moveTo>
                      <a:pt x="1005" y="729"/>
                    </a:moveTo>
                    <a:lnTo>
                      <a:pt x="240" y="729"/>
                    </a:lnTo>
                    <a:lnTo>
                      <a:pt x="0" y="0"/>
                    </a:lnTo>
                    <a:lnTo>
                      <a:pt x="1005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Freeform 161"/>
              <p:cNvSpPr/>
              <p:nvPr/>
            </p:nvSpPr>
            <p:spPr>
              <a:xfrm>
                <a:off x="5100120" y="3480480"/>
                <a:ext cx="1026720" cy="1954800"/>
              </a:xfrm>
              <a:custGeom>
                <a:avLst/>
                <a:gdLst/>
                <a:ahLst/>
                <a:rect l="l" t="t" r="r" b="b"/>
                <a:pathLst>
                  <a:path w="624" h="1188">
                    <a:moveTo>
                      <a:pt x="624" y="0"/>
                    </a:moveTo>
                    <a:lnTo>
                      <a:pt x="228" y="1188"/>
                    </a:lnTo>
                    <a:lnTo>
                      <a:pt x="0" y="462"/>
                    </a:lnTo>
                    <a:lnTo>
                      <a:pt x="6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Freeform 162"/>
              <p:cNvSpPr/>
              <p:nvPr/>
            </p:nvSpPr>
            <p:spPr>
              <a:xfrm>
                <a:off x="3451680" y="4704840"/>
                <a:ext cx="2028960" cy="740520"/>
              </a:xfrm>
              <a:custGeom>
                <a:avLst/>
                <a:gdLst/>
                <a:ahLst/>
                <a:rect l="l" t="t" r="r" b="b"/>
                <a:pathLst>
                  <a:path w="1233" h="450">
                    <a:moveTo>
                      <a:pt x="0" y="450"/>
                    </a:moveTo>
                    <a:lnTo>
                      <a:pt x="1233" y="450"/>
                    </a:lnTo>
                    <a:lnTo>
                      <a:pt x="621" y="0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Freeform 163"/>
              <p:cNvSpPr/>
              <p:nvPr/>
            </p:nvSpPr>
            <p:spPr>
              <a:xfrm>
                <a:off x="2809440" y="3485520"/>
                <a:ext cx="1021680" cy="1949760"/>
              </a:xfrm>
              <a:custGeom>
                <a:avLst/>
                <a:gdLst/>
                <a:ahLst/>
                <a:rect l="l" t="t" r="r" b="b"/>
                <a:pathLst>
                  <a:path w="621" h="1185">
                    <a:moveTo>
                      <a:pt x="0" y="0"/>
                    </a:moveTo>
                    <a:lnTo>
                      <a:pt x="621" y="459"/>
                    </a:lnTo>
                    <a:lnTo>
                      <a:pt x="390" y="1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Freeform 164"/>
              <p:cNvSpPr/>
              <p:nvPr/>
            </p:nvSpPr>
            <p:spPr>
              <a:xfrm>
                <a:off x="2809440" y="2275920"/>
                <a:ext cx="1648440" cy="1209600"/>
              </a:xfrm>
              <a:custGeom>
                <a:avLst/>
                <a:gdLst/>
                <a:ahLst/>
                <a:rect l="l" t="t" r="r" b="b"/>
                <a:pathLst>
                  <a:path w="1002" h="735">
                    <a:moveTo>
                      <a:pt x="0" y="732"/>
                    </a:moveTo>
                    <a:lnTo>
                      <a:pt x="1002" y="0"/>
                    </a:lnTo>
                    <a:lnTo>
                      <a:pt x="768" y="735"/>
                    </a:lnTo>
                    <a:lnTo>
                      <a:pt x="0" y="73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8" name="Oval 207"/>
          <p:cNvSpPr/>
          <p:nvPr/>
        </p:nvSpPr>
        <p:spPr>
          <a:xfrm>
            <a:off x="4376880" y="2614680"/>
            <a:ext cx="158760" cy="158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Text Box 208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6:09:55Z</dcterms:created>
  <dc:creator>Administrator</dc:creator>
  <dc:description/>
  <dc:language>en-US</dc:language>
  <cp:lastModifiedBy>Cynthia H. Morgan</cp:lastModifiedBy>
  <dcterms:modified xsi:type="dcterms:W3CDTF">2015-03-27T20:14:39Z</dcterms:modified>
  <cp:revision>23</cp:revision>
  <dc:subject/>
  <dc:title>Reflection and Rotation Symmetry</dc:title>
</cp:coreProperties>
</file>